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4D2-C639-40BF-984C-7C7E7F767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557-BE4A-47C0-AA6F-DE49DBD5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1CF-170B-4562-883B-A2345CB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AF6-6EAD-4F81-8A01-42F70CE7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B05-2B77-4E32-A62A-76507847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FF0-6AF3-438A-A36F-2E5B8A05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0FD-C0E6-49F4-AB1A-E2F061E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3B74-B3A9-4745-9C5E-7114FDE4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B8D-DAAF-4890-ABAC-84E1C1DA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B170-A078-430B-B531-A1F8E70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D43-A9A8-4651-8B40-7052A49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6441-A7B7-4583-A018-ADCE76A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EF6-8DCF-49B1-81F9-C8659C1A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BE80-89E5-4F9C-8081-DBE7F358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A976-E8D3-4DEF-947E-C77A12F0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B158-3BC3-44CA-A25B-DD8B57CF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21C-E03F-4952-BFE0-EB643BF0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87D-F8C0-45EA-88E1-4206ACE6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34B-7E80-473E-ADAD-B8D8F344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1E8A-47D5-4739-9EEC-4031F616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7503-E0B3-46A3-88D8-B06A3C20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75F4-1300-4ACC-BF59-C96A0AF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11E-2A0B-48F8-8669-C6D45FB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19B3-E39E-4E79-A026-5EC46430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0332-857D-4E6A-BBC9-112A5CA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F0C9-4FAA-42BA-9119-AE68845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4D1C-D9EC-4CB5-93FB-1D32C12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B2F1-6712-4EBD-88BB-1F1E1D6F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AFF3-84C8-43DB-9FCF-C452D0A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9939-D19A-4B6B-909F-EE7C9A7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17E6-E238-4BDA-A8E0-483F9DA7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107D-0C40-4B9D-89A0-1EA9BE25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729-437A-48B8-8495-66308AC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BE1-D4A7-464F-B545-DAF80AB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71FB-6C48-4D1C-B86B-AD144905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50C0-0D0E-4EBC-B102-E11A66F2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81D5-DADA-40A3-81C3-D18B642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21B0-9515-4292-9705-5C324EA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D55D-C847-4251-B94F-C75DCAA7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594D-C032-44AE-84C3-E5F469F6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0CB3-FB7D-4CD8-AD4F-467AF92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B096-297E-41D3-83D3-A08612A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398D-23D2-4F35-85A5-D59AAC9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CE4-36BA-4167-9E7E-BD7B18D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9688-B932-41A5-97AB-92C542F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7CF4-9D88-47E8-87F8-2D8AEE32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9596-BDAD-47DE-8B70-9E4F1218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25F-2D8B-4135-8803-5A8E1AD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FCB-3488-47E5-BCFB-9BD49EF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010-82AB-436C-8FDE-E086EECD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8EA-B0EB-495E-BA4F-6272B428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451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6E1808-B71F-41B0-8337-6AD0C5650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298E-248F-4FAB-8044-E6F6A64DB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ЮДЖЕТНЫЕ ТЕРМ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Ермаковский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509" name="" descr=""/>
            <p:cNvPicPr/>
            <p:nvPr/>
          </p:nvPicPr>
          <p:blipFill>
            <a:blip r:embed="rId2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6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2119320" y="3645000"/>
            <a:ext cx="934920" cy="2025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119320" y="3645000"/>
            <a:ext cx="934920" cy="202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7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0678800">
            <a:off x="3619080" y="263268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3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936360" cy="28875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500720" y="2781360"/>
            <a:ext cx="936360" cy="288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48240" y="2492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5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8"/>
          <a:stretch/>
        </p:blipFill>
        <p:spPr>
          <a:xfrm>
            <a:off x="6084720" y="1917720"/>
            <a:ext cx="973440" cy="3744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 rot="10678800">
            <a:off x="6079680" y="1625040"/>
            <a:ext cx="88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2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9"/>
          <a:stretch/>
        </p:blipFill>
        <p:spPr>
          <a:xfrm>
            <a:off x="7020000" y="1773360"/>
            <a:ext cx="936720" cy="38955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020000" y="1773360"/>
            <a:ext cx="936720" cy="38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20000" y="1484280"/>
            <a:ext cx="10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3,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84720" y="1917720"/>
            <a:ext cx="935280" cy="375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5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Ермаков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11280" y="1413000"/>
          <a:ext cx="7993080" cy="494496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29412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,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 207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54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1 593,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 475,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807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162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кцизы по продаже товаров (продукции), произведенных на территори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635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853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9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8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80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30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82,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2 54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6 94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7 3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175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37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535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76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68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6 412,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3 363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2 479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6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8 660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культур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31280" y="5522760"/>
            <a:ext cx="151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электронного муниципалитет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603900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держка и развитие малого и среднего предпринимательств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31280" y="479412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2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19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50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5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89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479412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еспечение безопасности жизнедеятельности населения 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8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506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70 542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25 088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06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35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67,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474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лодежь Ермаковского района 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е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87,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физической культуры, спорта, туризм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0 953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1 75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1 957,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06 692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образова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5840" y="6767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5840" y="47941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5840" y="6039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5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48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8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сельского хозяйств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31280" y="55166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8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ращение с твердыми бытовыми отходами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41 222,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23 915,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96 436,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612936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1280" y="494172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1 477,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9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2 620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5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 154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494172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5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400536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5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675,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2764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31280" y="4508640"/>
            <a:ext cx="1512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1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867,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4508640"/>
            <a:ext cx="450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архивного дел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31280" y="400536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88000" y="400536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20" y="400536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действие развитию местного само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31280" y="3429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90,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1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884,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0920" y="3357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6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здание условий для строительства социально значимых объектов, а так же обеспечения доступным жильём граждан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631280" y="2637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636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 имуществом и земельными ресурсам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141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транспортной систем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5840" y="321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5840" y="400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5840" y="4508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5840" y="501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5840" y="609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Ермаковский район» на 2014 год и плановый период 2015-2016 год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48600" y="2163600"/>
            <a:ext cx="696960" cy="387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95560" y="4178160"/>
            <a:ext cx="698400" cy="184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03320" y="4041720"/>
            <a:ext cx="700200" cy="19796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03760" y="3645000"/>
            <a:ext cx="752400" cy="23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16560" y="3506760"/>
            <a:ext cx="753840" cy="2514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55640" y="1628640"/>
            <a:ext cx="8161200" cy="4438800"/>
            <a:chOff x="755640" y="1628640"/>
            <a:chExt cx="8161200" cy="4438800"/>
          </a:xfrm>
        </p:grpSpPr>
        <p:pic>
          <p:nvPicPr>
            <p:cNvPr id="703" name="" descr=""/>
            <p:cNvPicPr/>
            <p:nvPr/>
          </p:nvPicPr>
          <p:blipFill>
            <a:blip r:embed="rId4"/>
            <a:stretch/>
          </p:blipFill>
          <p:spPr>
            <a:xfrm>
              <a:off x="6534000" y="2276640"/>
              <a:ext cx="7099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66648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7248600" y="2163600"/>
              <a:ext cx="69696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738252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640" y="6066000"/>
              <a:ext cx="81612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6"/>
            <a:stretch/>
          </p:blipFill>
          <p:spPr>
            <a:xfrm>
              <a:off x="1195560" y="4178160"/>
              <a:ext cx="69840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198440" y="3643200"/>
              <a:ext cx="65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1903320" y="4041720"/>
              <a:ext cx="7002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 flipV="1" rot="10806600">
              <a:off x="2028600" y="3637440"/>
              <a:ext cx="65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8"/>
            <a:stretch/>
          </p:blipFill>
          <p:spPr>
            <a:xfrm>
              <a:off x="3803760" y="3645000"/>
              <a:ext cx="752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807000" y="3103560"/>
              <a:ext cx="73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9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9"/>
            <a:stretch/>
          </p:blipFill>
          <p:spPr>
            <a:xfrm>
              <a:off x="4516560" y="3506760"/>
              <a:ext cx="753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4767840" y="3103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Ермаков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805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55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723" name="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54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177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30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2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6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8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9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29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68360" y="1341360"/>
          <a:ext cx="8364600" cy="514692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1197000"/>
          <a:ext cx="9144000" cy="54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411280" y="3068640"/>
            <a:ext cx="177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5516640"/>
            <a:ext cx="1692360" cy="609480"/>
          </a:xfrm>
          <a:prstGeom prst="borderCallout1">
            <a:avLst>
              <a:gd name="adj1" fmla="val 18750"/>
              <a:gd name="adj2" fmla="val -8333"/>
              <a:gd name="adj3" fmla="val -127342"/>
              <a:gd name="adj4" fmla="val -683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Ведомственная структура расходов районного бюджета   на 20</a:t>
            </a:r>
            <a:r>
              <a:rPr b="0" lang="en-US" sz="2300" spc="-1" strike="noStrike">
                <a:solidFill>
                  <a:srgbClr val="040503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804000" y="112536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0503"/>
                </a:solidFill>
                <a:latin typeface="Arial"/>
              </a:rPr>
              <a:t>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611280" y="1557360"/>
          <a:ext cx="7848360" cy="46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8483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втоном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 в случаях, установленных федеральными законами. Автономное учреждение имеет более широкий круг полномочий, чем бюджетное учреждение, но в то же время большую ответственность за результаты хозяйственной деятель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осуществляющие контроль за правильностью исчисления, полнотой и своевременностью уплаты, начисление, учет, взыскание,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 Представляет собой главный финансовый документ страны (региона, муниципального образования), утверждаемый органом законодательной власти соответствующего уровня управл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консолидированный - свод бюджетов бюджетной системы РФ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Ф и бюджетов входящих в него муниципальных образований), федеральном (свод всех бюджетов бюджетной системы РФ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ная классификация – группировка доходов, расходов и источников финансирования дефицитов бюджетов бюджетной системы РФ, используемая для составления и исполнения бюджетов, составления бюджетной отчёт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Муниципальная долговая книга Ермаковского района      по состоянию на 01.01.2014г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324000" y="907920"/>
          <a:ext cx="8729640" cy="4989600"/>
        </p:xfrm>
        <a:graphic>
          <a:graphicData uri="http://schemas.openxmlformats.org/drawingml/2006/table">
            <a:tbl>
              <a:tblPr/>
              <a:tblGrid>
                <a:gridCol w="228600"/>
                <a:gridCol w="617400"/>
                <a:gridCol w="665280"/>
                <a:gridCol w="720720"/>
                <a:gridCol w="863640"/>
                <a:gridCol w="1008000"/>
                <a:gridCol w="441360"/>
                <a:gridCol w="423720"/>
                <a:gridCol w="469800"/>
                <a:gridCol w="182520"/>
                <a:gridCol w="322560"/>
                <a:gridCol w="249120"/>
                <a:gridCol w="469800"/>
                <a:gridCol w="182520"/>
                <a:gridCol w="182520"/>
                <a:gridCol w="239760"/>
                <a:gridCol w="411120"/>
                <a:gridCol w="182880"/>
                <a:gridCol w="868320"/>
              </a:tblGrid>
              <a:tr h="4190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ерхний предел муниципального долга на 01.01.2015 г. - 0,0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.ч. верхний предел долга по муниципальным гарантиям - 0,00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едельный объем муниципального долга на 2014 год - 34 071 980,56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/№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 регистрации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егистрационный код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кредитор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заемщик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орма обеспечения обязательства, № и дата договора залога/ контргарант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возникновения долгового обязательст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сполнение или прекращение долгового обязательства (полное/частичное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таток долгового обязательства (непогашенный кредит, неиспользованная гарантия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д, номер и дата документа (договора и.тд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/срок погашения (график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. Кредитные соглашения и договоры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00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. Муниципальные займы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. Договоры и соглашения о получении бюджетных ссуд и бюджетных кредитов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. Договоры о предоставлении муниципальных гарантий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 ПО КНИГ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роспись - документ, который составляется и ведется главным распорядителем бюджетных средств (главным администратором источников финансирования дефицита бюджета) в целях исполнения бюджета по расходам (источникам финансирования дефицита бюдже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система Российской Федерации - совокупность федерального бюджета, бюджетов субъектов РФ, местных бюджетов и бюджетов государственных внебюджетных фон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обязательство- расходные обязательства, подлежащие исполнению в соответствующем финансовом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ассигнования - предельные объемы денежных средств, предусмотренные в соответствующем финансовом году для исполнения бюджетных обязатель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инвестиции - бюджетные средства, направляемые на создание или увеличение стоимости государственного (муниципального) иму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 программный - бюджет, сформированный на основе государственных (муниципальных) программ. Программный бюджет обеспечивает прямую взаимосвязь между распределением бюджетных ресурсов и результатами их использования в соответствии с установленными приоритетами государственной поли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ный процесс - деятельность по подготовке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субъекта Российской Федерации - форма образования и расходования денежных средств, предназначенных для финансирования функций, отнесенных к предметам ведения субъекта РФ.  Основной финансовый документ региона, утверждается на один год или на три года и имеет силу зак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структура расходов бюджета  - Распределение бюджетных средств по главным распорядителям бюджетных средств, по разделам, подразделам, целевым статьям и видам расходов, либо по целевым статьям (государственным (муниципальным) программам и непрограммным направлениям деятельности), группам (группам и подгруппам) видов расходов классификации расходов бюдже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целевая программа - документ, определяющий цели и задачи органов исполнительной власти края в области социально-экономического развития региона при осуществлении государственной политики в конкретных сферах деятельности, отраслях, видах экономической деятельности. Содержит комплекс необходимых мероприятий с указанием обеспечения финансовыми ресурсами, ожидаемых результатов и сроков ре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й долг - долг, выраженный в иностранной валюте. В объем внешнего долга не включается долг субъектов РФ и муниципальных образований перед РФ, выраженный в иностранной валю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лг - долг, выраженный в валюте РФ (рублях), а также долг субъектов РФ и муниципальных образований перед РФ, выраженный в иностранной валю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вный 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имеющие в своем ведении администраторов доходов бюдже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ый распорядитель бюджетных средств (ГРБС) - 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сударственная или муниципальная гарантия - вид долгового обязательства государства (муниципального образования). Предполагает обязанность государства (муниципального образования) уплатить кредитору определенную денежную сумму за должника за счет средств соответствующего бюджета при наступлении гарантийного слу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ое (муниципальное) задание - документ, содержащий требования к составу, качеству, объему, условиям, порядку и результатам оказания государственных (муниципальных) услуг (выполнения работ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е (муниципальные) услуги (работы) - услуги (работы), оказываемые (выполняемые) органами государственной власти (органами местного самоуправления), государственными (муниципальными) учреждения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й долг - обязательства РФ, субъекта РФ по полученным кредитам, выпущенным ценным бумагам, предоставленным гарантиям перед третьими лиц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фицит бюджета- превышение расходов бюджета над его доход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тации - финансовая помощь территориям, размер которой рассчитывается по установленной методике. Поскольку стартовые возможности в муниципальных образованиях различны (численность населения, транспортная доступность, климатические условия и т.д.), дотации нацелены на выравнивание этих условий. Таким образом, неравные финансовые возможности территорий приводятся к «общему знаменателю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ходы бюджета - поступающие от населения, организаций, учреждений в бюджет денежные средства в виде налогов, неналоговых поступлений (пошлины, доходы от продажи имущества, штрафы и т.п.), безвозмездных поступлений,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средства от продажи акций, остатки средств на начало периода не включаются в состав дохо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точники финансирования дефицита бюджета - средства, привлекаемые в бюджет для покрытия дефицита (кредиты банков, кредиты от других уровней бюджетов, выпуск ценных бумаг, средства от продажи акций, остатки средств на начало года, иные источник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енное учреждение - государственное (муниципальное) учреждение, финансовое обеспечение деятельности которого осуществляется за счет средств соответствующего бюджета на основании бюджетной см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миты бюджетных обязательств - объем прав (в денежном выражении) по принятию и исполнению казенным учреждением бюджетных обязательств в текущем финансовом году и плановом пери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отношения - взаимоотношения между РФ, субъектами РФ и муниципальными образованиями по вопросам осуществления бюджет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трансферты - средства, предоставляемые одним бюджетом бюджетной системы РФ другому бюдж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ый долг - совокупность долговых обязательств муниципального образования (кредитные соглашения и договоры, заключенные муниципальным образованием; займы муниципального образования, осуществляемые путем выпуска ценных бумаг от имени муниципального образования и др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снование бюджетных ассигнований - документ, содержащий информацию о бюджетных средствах в очередном финансовом году (и плановом период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тный финансовый год - год, предшествующий текущему финансовому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чередной финансовый год - год, следующий за текущим финансовым г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овый период - два финансовых года, следующие за очередным финансовым го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тель бюджетных средств - орган государственной власти (местного самоуправления), орган управления государственным внебюджетным фондом, казенное учреждение, исполняющие свои функции за счет средств соответствующего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ые расходы - расходы, включенные в государственные (муниципальные)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цит бюджета - превышение доходов бюджета над его расхо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рядитель бюджетных средств - орган государственной власти (местного самоуправления), орган управления государственным внебюджетным фондом, или казенное учреждение, имеющий право распределять бюджетные средства по подведомственным распорядителям или получателям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ходное обязательство - обязанность РФ, субъекта РФ или муниципальн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дная бюджетная роспись - документ, который составляется и ведется финансовым органом (органом управления государственным внебюджетным фондом) в целях организации исполнения бюджета по расходам бюджета и источникам финансирования дефицита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сидия (местным бюджетам из бюджета субъекта Российской Федерации) - целевые средства на решение приоритетных задач территорий при условии обязательного участия средств местных бюджетов. Например, субсидии на строительство детских садов, капитальный ремонт дорог, летний отдых детей и многое друг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й финансовый год - год, в котором осуществляется исполнение бюджета, составление и рассмотрение проекта бюджета на очередной финансовый год и плановый пери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ый орган - на федеральном уровне – Министерство финансов РФ. На уровне субъекта РФ – орган исполнительной власти, осуществляющий составление и организацию исполнения бюджета субъектов РФ (в Красноярском крае – министерство финансов Красноярского края). На местном уровне – органы (должностные лица) местных администраций, осуществляющие составление и организацию исполнения местных бюджетов (департамент финансов, управление финансов, финансовый отдел и др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ники бюджетного процесса 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 Участниками бюджетного процесса в Красноярском крае являются: Губернатор края; Законодательное Собрание края; Правительство края; финансовый орган края; Счетная палата края; органы исполнительной власти края, наделенные полномочиями по осуществлению финансового контроля; главные распорядители (распорядители), получатели бюджетных средств; главные администраторы (администраторы) доходов бюджета; главные администраторы (администраторы) источников финансирования дефицита бюджета; орган управления Территориального фонда обязательного медицинского страхования Красноярского кр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Кравченко Наталья</cp:lastModifiedBy>
  <dcterms:modified xsi:type="dcterms:W3CDTF">2015-01-29T03:24:06Z</dcterms:modified>
  <cp:revision>220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