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wmf" ContentType="image/x-wmf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9871075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0"/>
            <a:ext cx="9871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13"/>
          </p:nvPr>
        </p:nvSpPr>
        <p:spPr>
          <a:xfrm>
            <a:off x="558972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Img"/>
          </p:nvPr>
        </p:nvSpPr>
        <p:spPr>
          <a:xfrm>
            <a:off x="3254040" y="506160"/>
            <a:ext cx="3365640" cy="25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ftr" idx="14"/>
          </p:nvPr>
        </p:nvSpPr>
        <p:spPr>
          <a:xfrm>
            <a:off x="0" y="639720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 type="sldNum" idx="15"/>
          </p:nvPr>
        </p:nvSpPr>
        <p:spPr>
          <a:xfrm>
            <a:off x="5589720" y="639720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1865-19EA-4980-B319-7A0AF551EC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5640" cy="25239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C84-DEA5-4397-A223-FD8DE25C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C28-B562-4356-B790-BE140D6B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0BAF-3224-4260-B1B2-C8B9A939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DDB0-E2B5-40DF-A482-DBB62ECA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7EB6-E593-4232-9182-B9B24216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22EA-B312-404F-8E3E-DD17D803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D4B5-27F2-470D-8E31-81CAC6A4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0623-1698-4913-A41F-31896183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8521-2866-46B2-B32B-A3ACB85B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B445-457F-411F-A220-84059306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BEB9-8C1A-4C3C-9842-2B24E0E6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FF9D-1958-4266-A0F0-4745D023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D33C-CC78-4041-844B-0217C702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63F1-E8F9-45B1-869C-F36AD019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C07C-BBB2-4A42-ADBF-A582DD2E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26D7-7740-47A2-B2C2-E2A5795B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A003-91C8-4F27-97C1-A62F486D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FA6-E597-4B4F-96FD-8A5EDAB8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1E453-D2ED-48FF-B99A-DF67306B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DE213-36CD-4497-83BE-3E8AD324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C84C6-BA58-438C-908A-3E16660B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289-3800-4949-AD17-5DA6ECC7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82C82-55ED-4357-B6ED-78F58787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974A-BBBC-442F-81BD-8B3AD08C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B6F2-6EF7-4843-8095-52CDC99E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4B31-D2D3-4F62-B62E-48DC6C2F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30870-25E0-4F65-9814-C348C0BC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24C04-97C4-440E-9A9B-7D82582A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4E526-269C-444C-8B87-86436DE6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39B3E-D7C8-42B2-A97C-E7B12B25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5D995-5727-4E07-81A8-AF302474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6C6-CBB7-498A-80D6-8C18EB8D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2D8-19F9-48B7-A9AC-442C5EFE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C4B14-1DAA-4ECA-B2D5-58546FDD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D8A5E-C03D-40AB-9DEA-74B044C1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10676-EEEC-4D8F-9129-6C0CD839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34A2-A9DA-41B5-8255-6C7D9A5B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50884-2DB3-4FDD-90DB-EF4B1E8E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F27F6-4572-4989-A259-A0180651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56CA2-E703-4DA0-BA7B-75685F38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58FC9-8060-424D-B44C-5EDF6075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861F2-47A0-4F10-9579-5244A4A2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5841-E549-46D6-AF13-298314E8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A5203-59F9-4B6C-AEDE-C4927B6B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85A44-46B9-4798-8B8D-59205659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0BDB5-6F5D-4745-9499-28E34C2E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88E0-D590-4CC8-8813-A53A3838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174-7DF8-48A8-9734-CEE18B81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59DF-D9B3-4155-B5C8-A39467837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B84B-2AF8-4815-B786-842E407F6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9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2360" y="277560"/>
            <a:ext cx="863928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52360" y="1160640"/>
            <a:ext cx="8639280" cy="4970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341280" indent="-341280"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2600">
              <a:spcBef>
                <a:spcPts val="451"/>
              </a:spcBef>
              <a:buClr>
                <a:srgbClr val="ffff99"/>
              </a:buClr>
              <a:buSzPct val="120000"/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1560" indent="-2286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8840" indent="-2300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2058840" indent="-2300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2058840" indent="-2300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1643C4-B3CB-4AD9-8E34-A7196A2E1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2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9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2FA8-65DF-4B39-A310-E8ECC64A85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ЮДЖЕТНЫЕ ТЕРМИ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нципы формирования расходов  бюджета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а 20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4 год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Индексация прочих расходов на 5 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Снижение расходов на закупку товаров, работ и услуг для муниципальных нужд       на 5 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Увеличение фонда оплаты труда работников бюджетной сферы с 1 октября 2014 года на 5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Увеличение фонда оплаты труда выборных должностных лиц и муниципальных служащих на 5,0% с 1 октября 2014 года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Индексация расходов на коммунальные услуги на 10,5%  (при этом указанные расходы должны быть скорректированы  на ожидаемую экономию бюджетных средств от внедрения энергосберегающих технологий на 3%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Обеспечение увеличения фонда оплаты труда в соответствии с указом Президента РФ на 10% с 1 января 2014 года за счет перераспределения расходов  внутри отрасли педагогическим работникам учреждений дополнительного образования детей и работникам учреждений культуры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6360" y="116352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7164360" y="1052640"/>
            <a:ext cx="16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Основные параметры районного бюджета МО «Ермаковский район» на 2014 год и плановый период 2015-2016 гг.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24000" y="1052640"/>
            <a:ext cx="2288160" cy="243720"/>
            <a:chOff x="324000" y="1052640"/>
            <a:chExt cx="2288160" cy="243720"/>
          </a:xfrm>
        </p:grpSpPr>
        <p:pic>
          <p:nvPicPr>
            <p:cNvPr id="509" name="" descr=""/>
            <p:cNvPicPr/>
            <p:nvPr/>
          </p:nvPicPr>
          <p:blipFill>
            <a:blip r:embed="rId2"/>
            <a:stretch/>
          </p:blipFill>
          <p:spPr>
            <a:xfrm>
              <a:off x="324000" y="110016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324000" y="1100160"/>
              <a:ext cx="123840" cy="12384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6120" y="1052640"/>
              <a:ext cx="80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До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2" name="" descr=""/>
            <p:cNvPicPr/>
            <p:nvPr/>
          </p:nvPicPr>
          <p:blipFill>
            <a:blip r:embed="rId3"/>
            <a:stretch/>
          </p:blipFill>
          <p:spPr>
            <a:xfrm>
              <a:off x="1492200" y="109044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1492200" y="1090440"/>
              <a:ext cx="123840" cy="123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12160" y="1052640"/>
              <a:ext cx="90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Рас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 flipV="1">
            <a:off x="582480" y="5697360"/>
            <a:ext cx="8021880" cy="50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1187280" y="3718080"/>
            <a:ext cx="947880" cy="194292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 flipV="1" rot="10678800">
            <a:off x="1157040" y="3353400"/>
            <a:ext cx="88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6,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276552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2119320" y="3645000"/>
            <a:ext cx="934920" cy="2025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2119320" y="3645000"/>
            <a:ext cx="934920" cy="2025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46320" y="3357720"/>
            <a:ext cx="1009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7,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73700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4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6"/>
          <a:stretch/>
        </p:blipFill>
        <p:spPr>
          <a:xfrm>
            <a:off x="3621240" y="2925720"/>
            <a:ext cx="936360" cy="27367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3621240" y="2925720"/>
            <a:ext cx="936360" cy="273672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 rot="10678800">
            <a:off x="3619080" y="2632680"/>
            <a:ext cx="88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3,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16420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7"/>
          <a:stretch/>
        </p:blipFill>
        <p:spPr>
          <a:xfrm>
            <a:off x="4500720" y="2781360"/>
            <a:ext cx="936360" cy="28875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4500720" y="2781360"/>
            <a:ext cx="936360" cy="2887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548240" y="2492280"/>
            <a:ext cx="100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5,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3568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5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8"/>
          <a:stretch/>
        </p:blipFill>
        <p:spPr>
          <a:xfrm>
            <a:off x="6084720" y="1917720"/>
            <a:ext cx="973440" cy="37447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 flipV="1" rot="10678800">
            <a:off x="6079680" y="1625040"/>
            <a:ext cx="88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12,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766440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9"/>
          <a:stretch/>
        </p:blipFill>
        <p:spPr>
          <a:xfrm>
            <a:off x="7020000" y="1773360"/>
            <a:ext cx="936720" cy="38955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7020000" y="1773360"/>
            <a:ext cx="936720" cy="38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20000" y="1484280"/>
            <a:ext cx="101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13,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3624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6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084720" y="1917720"/>
            <a:ext cx="935280" cy="375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635280" y="2924280"/>
            <a:ext cx="865440" cy="2744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87280" y="3716280"/>
            <a:ext cx="935280" cy="1954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950"/>
                            </p:stCondLst>
                            <p:childTnLst>
                              <p:par>
                                <p:cTn id="5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Доходы районного бюджета МО «Ермаковский район»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611280" y="1413000"/>
          <a:ext cx="7993080" cy="4944960"/>
        </p:xfrm>
        <a:graphic>
          <a:graphicData uri="http://schemas.openxmlformats.org/drawingml/2006/table">
            <a:tbl>
              <a:tblPr/>
              <a:tblGrid>
                <a:gridCol w="4052880"/>
                <a:gridCol w="1311120"/>
                <a:gridCol w="1316160"/>
                <a:gridCol w="1312920"/>
              </a:tblGrid>
              <a:tr h="294120"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 на прибыль организ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9,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0,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6,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 207,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 154,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1 593,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 475,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807,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162,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кцизы по продаже товаров (продукции), произведенных на территории Р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,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,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,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ходы от использования имущества, находящегося в государственной и     муниципальной собствен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156,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635,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853,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9,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8,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8,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чие до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080,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230,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382,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езвозмездные поступления  из краевого бюдже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2 54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6 94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7 38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ежбюджетные трансферты от посел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175,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374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535,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чие 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376,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687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0" rIns="0" tIns="10800" bIns="10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6 412,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3 363,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2 479,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"/>
          <p:cNvSpPr/>
          <p:nvPr/>
        </p:nvSpPr>
        <p:spPr>
          <a:xfrm>
            <a:off x="7380360" y="907920"/>
            <a:ext cx="15494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4000" y="981000"/>
            <a:ext cx="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6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6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6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50920" y="0"/>
            <a:ext cx="860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Распределение расходов районного бюджета по муниципальным программам на 20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4-2016 год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50920" y="1052640"/>
            <a:ext cx="25556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Autofit/>
          </a:bodyPr>
          <a:p>
            <a:pPr marL="341280" indent="-341280">
              <a:lnSpc>
                <a:spcPct val="140000"/>
              </a:lnSpc>
              <a:spcBef>
                <a:spcPts val="451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31280" y="2147760"/>
            <a:ext cx="1512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9 905,8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19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9 905,8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75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8 660,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2147760"/>
            <a:ext cx="450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культуры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631280" y="5522760"/>
            <a:ext cx="1512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91280" y="552276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751280" y="552276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0920" y="5522760"/>
            <a:ext cx="45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электронного муниципалитета в Ермаковском райо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1280" y="603900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191280" y="603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751280" y="603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50920" y="603900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оддержка и развитие малого и среднего предпринимательства в Ермаковском райо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631280" y="479412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923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191280" y="479412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050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751280" y="479412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089,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0920" y="479412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беспечение безопасности жизнедеятельности населения территории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191280" y="406548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284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191280" y="35496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506,7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91280" y="303372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513,4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91280" y="251784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70 542,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9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25 088,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19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631280" y="406548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306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751280" y="406548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235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0920" y="406548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еформирование и модернизация ЖКХ и повышение энергетической эффективности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631280" y="354960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667,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51280" y="35496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474,7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0920" y="354960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лодежь Ермаковского района в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XXI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е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631280" y="303372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513,4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751280" y="303372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387,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0920" y="303372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физической культуры, спорта, туризма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31280" y="251784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60 953,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716360" y="24922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61 754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50920" y="251784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истема социальной защиты населения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31280" y="16318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51 957,5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716360" y="162864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06 692,8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50920" y="1628640"/>
            <a:ext cx="45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образования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631280" y="1268280"/>
            <a:ext cx="15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042920" y="1268280"/>
            <a:ext cx="37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5840" y="1268280"/>
            <a:ext cx="885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5840" y="676764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584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584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8584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8584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8584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8584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14400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914400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85840" y="16318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85840" y="2147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85840" y="303372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85840" y="35496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85840" y="40654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85840" y="479412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8584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14400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85840" y="5522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5840" y="60390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85840" y="251784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451640" y="981000"/>
            <a:ext cx="13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250920" y="0"/>
            <a:ext cx="860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Распределение расходов районного бюджета по муниципальным программам на 20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4-2016 год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0920" y="1052640"/>
            <a:ext cx="25556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Autofit/>
          </a:bodyPr>
          <a:p>
            <a:pPr marL="341280" indent="-341280">
              <a:lnSpc>
                <a:spcPct val="140000"/>
              </a:lnSpc>
              <a:spcBef>
                <a:spcPts val="349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631280" y="2133720"/>
            <a:ext cx="151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574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19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575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5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481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0920" y="2147760"/>
            <a:ext cx="450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80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сельского хозяйства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31280" y="551664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645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191280" y="552276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645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751280" y="552276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685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50920" y="5522760"/>
            <a:ext cx="45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0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бращение с твердыми бытовыми отходами 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территории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631280" y="603900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41 222,4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191280" y="603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23 915,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751280" y="603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696 436,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0920" y="612936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Всег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1280" y="4941720"/>
            <a:ext cx="1512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1 477,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191280" y="4941720"/>
            <a:ext cx="1440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2 620,8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751280" y="4941720"/>
            <a:ext cx="1440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3 154,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50920" y="4941720"/>
            <a:ext cx="4500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правление муниципальными финанс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56360" y="4508640"/>
            <a:ext cx="1440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936,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56360" y="400536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750,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156360" y="34290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675,3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227640" y="26370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25,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9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 645,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9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631280" y="4508640"/>
            <a:ext cx="1512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936,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716360" y="4508640"/>
            <a:ext cx="1440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867,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50920" y="4508640"/>
            <a:ext cx="4500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архивного дела в Ермаковском райо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631280" y="400536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750,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788000" y="4005360"/>
            <a:ext cx="143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750,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50920" y="400536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действие развитию местного самоуправ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631280" y="342900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590,8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716360" y="34290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884,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0920" y="335772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68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здание условий для строительства социально значимых объектов, а так же обеспечения доступным жильём граждан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631280" y="263700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25,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16360" y="26370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25,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50920" y="263700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правление муниципальным имуществом и земельными ресурсами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631280" y="16318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 645,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75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 141,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50920" y="163188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транспортной системы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631280" y="1268280"/>
            <a:ext cx="15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75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042920" y="1268280"/>
            <a:ext cx="37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5840" y="1268280"/>
            <a:ext cx="885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8584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8584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584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8584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8584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584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14400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14400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914400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14400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914400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85840" y="16318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85840" y="2147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85840" y="32130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5840" y="4005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85840" y="450864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85840" y="5013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8584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14400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85840" y="5522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5840" y="60930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5840" y="2565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596360" y="981000"/>
            <a:ext cx="1296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8203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Основные параметры консолидированного бюджета МО «Ермаковский район» на 2014 год и плановый период 2015-2016 годов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без учета внутренних оборотов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1" lang="en-US" sz="2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164360" y="1197000"/>
            <a:ext cx="16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24000" y="10526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24000" y="1197000"/>
            <a:ext cx="2250000" cy="243720"/>
            <a:chOff x="324000" y="1197000"/>
            <a:chExt cx="2250000" cy="243720"/>
          </a:xfrm>
        </p:grpSpPr>
        <p:pic>
          <p:nvPicPr>
            <p:cNvPr id="687" name="" descr=""/>
            <p:cNvPicPr/>
            <p:nvPr/>
          </p:nvPicPr>
          <p:blipFill>
            <a:blip r:embed="rId2"/>
            <a:stretch/>
          </p:blipFill>
          <p:spPr>
            <a:xfrm>
              <a:off x="324000" y="1244520"/>
              <a:ext cx="114120" cy="1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324000" y="1244520"/>
              <a:ext cx="114120" cy="11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38200" y="1197000"/>
              <a:ext cx="80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До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0" name="" descr=""/>
            <p:cNvPicPr/>
            <p:nvPr/>
          </p:nvPicPr>
          <p:blipFill>
            <a:blip r:embed="rId3"/>
            <a:stretch/>
          </p:blipFill>
          <p:spPr>
            <a:xfrm>
              <a:off x="1463760" y="1254240"/>
              <a:ext cx="1144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1463760" y="1254240"/>
              <a:ext cx="114480" cy="1141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674000" y="1197000"/>
              <a:ext cx="90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Рас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6534000" y="2276640"/>
            <a:ext cx="709920" cy="374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248600" y="2163600"/>
            <a:ext cx="696960" cy="38782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319248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84820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851544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95560" y="4178160"/>
            <a:ext cx="698400" cy="1843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903320" y="4041720"/>
            <a:ext cx="700200" cy="197964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803760" y="3645000"/>
            <a:ext cx="752400" cy="23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516560" y="3506760"/>
            <a:ext cx="753840" cy="251460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755640" y="1628640"/>
            <a:ext cx="8161200" cy="4438800"/>
            <a:chOff x="755640" y="1628640"/>
            <a:chExt cx="8161200" cy="4438800"/>
          </a:xfrm>
        </p:grpSpPr>
        <p:pic>
          <p:nvPicPr>
            <p:cNvPr id="703" name="" descr=""/>
            <p:cNvPicPr/>
            <p:nvPr/>
          </p:nvPicPr>
          <p:blipFill>
            <a:blip r:embed="rId4"/>
            <a:stretch/>
          </p:blipFill>
          <p:spPr>
            <a:xfrm>
              <a:off x="6534000" y="2276640"/>
              <a:ext cx="709920" cy="37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666480" y="16286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42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5" name="" descr=""/>
            <p:cNvPicPr/>
            <p:nvPr/>
          </p:nvPicPr>
          <p:blipFill>
            <a:blip r:embed="rId5"/>
            <a:stretch/>
          </p:blipFill>
          <p:spPr>
            <a:xfrm>
              <a:off x="7248600" y="2163600"/>
              <a:ext cx="696960" cy="38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7382520" y="16286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43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55640" y="6066000"/>
              <a:ext cx="81612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8" name="" descr=""/>
            <p:cNvPicPr/>
            <p:nvPr/>
          </p:nvPicPr>
          <p:blipFill>
            <a:blip r:embed="rId6"/>
            <a:stretch/>
          </p:blipFill>
          <p:spPr>
            <a:xfrm>
              <a:off x="1195560" y="4178160"/>
              <a:ext cx="698400" cy="18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1198440" y="3643200"/>
              <a:ext cx="65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49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0" name="" descr=""/>
            <p:cNvPicPr/>
            <p:nvPr/>
          </p:nvPicPr>
          <p:blipFill>
            <a:blip r:embed="rId7"/>
            <a:stretch/>
          </p:blipFill>
          <p:spPr>
            <a:xfrm>
              <a:off x="1903320" y="4041720"/>
              <a:ext cx="70020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 flipV="1" rot="10806600">
              <a:off x="2028600" y="3637440"/>
              <a:ext cx="65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49,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2" name="" descr=""/>
            <p:cNvPicPr/>
            <p:nvPr/>
          </p:nvPicPr>
          <p:blipFill>
            <a:blip r:embed="rId8"/>
            <a:stretch/>
          </p:blipFill>
          <p:spPr>
            <a:xfrm>
              <a:off x="3803760" y="3645000"/>
              <a:ext cx="7524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3807000" y="3103560"/>
              <a:ext cx="731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99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4" name="" descr=""/>
            <p:cNvPicPr/>
            <p:nvPr/>
          </p:nvPicPr>
          <p:blipFill>
            <a:blip r:embed="rId9"/>
            <a:stretch/>
          </p:blipFill>
          <p:spPr>
            <a:xfrm>
              <a:off x="4516560" y="3506760"/>
              <a:ext cx="75384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4767840" y="31035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00,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1529280" y="621360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99"/>
                </a:solidFill>
                <a:latin typeface="Arial"/>
              </a:rPr>
              <a:t>2014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199400" y="621360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99"/>
                </a:solidFill>
                <a:latin typeface="Arial"/>
              </a:rPr>
              <a:t>2015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855120" y="621648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99"/>
                </a:solidFill>
                <a:latin typeface="Arial"/>
              </a:rPr>
              <a:t>2016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836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Доходы консолидированного бюджета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МО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«Ермаковский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                        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район» в 20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4 году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                                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(млн. рублей)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50920" y="10526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0920" y="6066000"/>
            <a:ext cx="8642160" cy="7920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0503"/>
                </a:solidFill>
                <a:latin typeface="Arial"/>
              </a:rPr>
              <a:t>Консолидированный бюджет                     805,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40503"/>
                </a:solidFill>
                <a:latin typeface="Arial Black"/>
              </a:rPr>
              <a:t>в том числе: внутренние обороты – 55,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324000" y="1413000"/>
            <a:ext cx="8495640" cy="4586760"/>
            <a:chOff x="324000" y="1413000"/>
            <a:chExt cx="8495640" cy="4586760"/>
          </a:xfrm>
        </p:grpSpPr>
        <p:sp>
          <p:nvSpPr>
            <p:cNvPr id="723" name=""/>
            <p:cNvSpPr/>
            <p:nvPr/>
          </p:nvSpPr>
          <p:spPr>
            <a:xfrm>
              <a:off x="324000" y="1413000"/>
              <a:ext cx="201600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Межбюджет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трансферты из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краевого бюдж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542,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44720" y="1413000"/>
              <a:ext cx="201564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Собствен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доход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районного бюдж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177,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04000" y="1413000"/>
              <a:ext cx="201564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Собственные дохо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оселен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30,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31640" y="3068640"/>
              <a:ext cx="2665080" cy="2016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Районный бюдж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726,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87640" y="2565360"/>
              <a:ext cx="1728720" cy="6476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Субвенция 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передачу полномоч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6,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787640" y="3357720"/>
              <a:ext cx="1728720" cy="502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Субвенц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1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787640" y="3933720"/>
              <a:ext cx="172872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Дотация из район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фонда финансово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поддерж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18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9730400">
              <a:off x="1547640" y="2204640"/>
              <a:ext cx="199800" cy="936720"/>
            </a:xfrm>
            <a:prstGeom prst="downArrow">
              <a:avLst>
                <a:gd name="adj1" fmla="val 50000"/>
                <a:gd name="adj2" fmla="val 11720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800000">
              <a:off x="3564000" y="2205000"/>
              <a:ext cx="199440" cy="936720"/>
            </a:xfrm>
            <a:prstGeom prst="downArrow">
              <a:avLst>
                <a:gd name="adj1" fmla="val 50000"/>
                <a:gd name="adj2" fmla="val 11741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95640" y="364500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995640" y="429264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3995280" y="2924280"/>
              <a:ext cx="791640" cy="5032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37440" y="3068640"/>
              <a:ext cx="1582200" cy="2016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Бюдж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оселе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79,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516720" y="429264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516720" y="364500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516360" y="2852280"/>
              <a:ext cx="720360" cy="505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85080" y="2276640"/>
              <a:ext cx="199440" cy="792000"/>
            </a:xfrm>
            <a:prstGeom prst="downArrow">
              <a:avLst>
                <a:gd name="adj1" fmla="val 50000"/>
                <a:gd name="adj2" fmla="val 9927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7880000">
              <a:off x="3133440" y="4652640"/>
              <a:ext cx="244440" cy="1685880"/>
            </a:xfrm>
            <a:prstGeom prst="downArrow">
              <a:avLst>
                <a:gd name="adj1" fmla="val 50000"/>
                <a:gd name="adj2" fmla="val 17242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3720000">
              <a:off x="7165440" y="4653000"/>
              <a:ext cx="244440" cy="1685520"/>
            </a:xfrm>
            <a:prstGeom prst="downArrow">
              <a:avLst>
                <a:gd name="adj1" fmla="val 50000"/>
                <a:gd name="adj2" fmla="val 17238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87640" y="4724280"/>
              <a:ext cx="172872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Иные межбюджет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трансфер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29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995640" y="501336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16720" y="501336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93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Единые нормативы отчислений в местные бюджеты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468360" y="1341360"/>
          <a:ext cx="8364600" cy="5146920"/>
        </p:xfrm>
        <a:graphic>
          <a:graphicData uri="http://schemas.openxmlformats.org/drawingml/2006/table">
            <a:tbl>
              <a:tblPr/>
              <a:tblGrid>
                <a:gridCol w="4260960"/>
                <a:gridCol w="1114200"/>
                <a:gridCol w="828720"/>
                <a:gridCol w="184320"/>
                <a:gridCol w="685800"/>
                <a:gridCol w="245880"/>
                <a:gridCol w="1044720"/>
              </a:tblGrid>
              <a:tr h="452520"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Рай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Посе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прибыль организа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ый налог на вмененный дох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07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7960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шлина по делам, рассматриваемыми в судах общей юрисдик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16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7960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от арендной платы за государственные земли посел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2404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от продажи земельных участков, государственная собственность на которые не разгранич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7" name="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9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324000" y="0"/>
            <a:ext cx="82087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Формирование доходов и расходов поселений на 20</a:t>
            </a: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4 год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380360" y="1125360"/>
            <a:ext cx="143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млн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0" y="1197000"/>
          <a:ext cx="9144000" cy="546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914400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4932360" y="3213000"/>
            <a:ext cx="216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ежбюджет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фер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411280" y="3068640"/>
            <a:ext cx="1779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обств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хо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556000" y="4221000"/>
            <a:ext cx="23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тации из район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он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инансовой поддерж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сел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627280" y="5950080"/>
            <a:ext cx="2952720" cy="733320"/>
          </a:xfrm>
          <a:prstGeom prst="borderCallout1">
            <a:avLst>
              <a:gd name="adj1" fmla="val 18750"/>
              <a:gd name="adj2" fmla="val -8333"/>
              <a:gd name="adj3" fmla="val -99564"/>
              <a:gd name="adj4" fmla="val 9607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убвенция бюджетам субъектов РФ и муниципальных образов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020000" y="5516640"/>
            <a:ext cx="1692360" cy="609480"/>
          </a:xfrm>
          <a:prstGeom prst="borderCallout1">
            <a:avLst>
              <a:gd name="adj1" fmla="val 18750"/>
              <a:gd name="adj2" fmla="val -8333"/>
              <a:gd name="adj3" fmla="val -127342"/>
              <a:gd name="adj4" fmla="val -6838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убвенция по передаваемым полномочия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627280" y="5950080"/>
            <a:ext cx="2952720" cy="733320"/>
          </a:xfrm>
          <a:prstGeom prst="borderCallout1">
            <a:avLst>
              <a:gd name="adj1" fmla="val 18750"/>
              <a:gd name="adj2" fmla="val -8333"/>
              <a:gd name="adj3" fmla="val -99564"/>
              <a:gd name="adj4" fmla="val 9607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убвенция бюджетам субъектов РФ и муниципальных образов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7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324000" y="0"/>
            <a:ext cx="82087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300" spc="-1" strike="noStrike">
                <a:solidFill>
                  <a:srgbClr val="040503"/>
                </a:solidFill>
                <a:latin typeface="Arial"/>
              </a:rPr>
              <a:t>Ведомственная структура расходов районного бюджета   на 20</a:t>
            </a:r>
            <a:r>
              <a:rPr b="0" lang="en-US" sz="2300" spc="-1" strike="noStrike">
                <a:solidFill>
                  <a:srgbClr val="040503"/>
                </a:solidFill>
                <a:latin typeface="Arial"/>
              </a:rPr>
              <a:t>1</a:t>
            </a:r>
            <a:r>
              <a:rPr b="0" lang="ru-RU" sz="2300" spc="-1" strike="noStrike">
                <a:solidFill>
                  <a:srgbClr val="040503"/>
                </a:solidFill>
                <a:latin typeface="Arial"/>
              </a:rPr>
              <a:t>4 год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804000" y="1125360"/>
            <a:ext cx="201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0503"/>
                </a:solidFill>
                <a:latin typeface="Arial"/>
              </a:rPr>
              <a:t>млн.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932360" y="3213000"/>
            <a:ext cx="216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411280" y="2781360"/>
            <a:ext cx="1779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556000" y="4221000"/>
            <a:ext cx="23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611280" y="1557360"/>
          <a:ext cx="7848360" cy="463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57360"/>
                    <a:ext cx="78483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SzPct val="17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Автономное учреждение - некоммерческая организация, созданная РФ, субъектом РФ или муниципальным образованием для выполнения работ, оказания услуг в сферах науки, образования, здравоохранения, культуры, социальной защиты, занятости населения, физической культуры и спорта, а также в иных сферах в случаях, установленных федеральными законами. Автономное учреждение имеет более широкий круг полномочий, чем бюджетное учреждение, но в то же время большую ответственность за результаты хозяйственной деятельност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SzPct val="17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Администратор доходов бюджета - орган государственной власти (местного самоуправления), орган управления государственным внебюджетным фондом, Центральный банк РФ, казенное учреждение, осуществляющие контроль за правильностью исчисления, полнотой и своевременностью уплаты, начисление, учет, взыскание,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SzPct val="17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Бюджет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 Представляет собой главный финансовый документ страны (региона, муниципального образования), утверждаемый органом законодательной власти соответствующего уровня управления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SzPct val="17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Бюджет консолидированный - свод бюджетов бюджетной системы РФ на соответствующей территории (за исключением бюджетов государственных внебюджетных фондов). Консолидированным может быть бюджет на местном уровне (свод бюджета муниципального образования и бюджетов входящих в него поселений), региональном (свод бюджета субъекта РФ и бюджетов входящих в него муниципальных образований), федеральном (свод всех бюджетов бюджетной системы РФ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SzPct val="17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Бюджетная классификация – группировка доходов, расходов и источников финансирования дефицитов бюджетов бюджетной системы РФ, используемая для составления и исполнения бюджетов, составления бюджетной отчётност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324000" y="0"/>
            <a:ext cx="82087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Муниципальная долговая книга Ермаковского района      по состоянию на 01.01.2014г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932360" y="3213000"/>
            <a:ext cx="216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411280" y="2781360"/>
            <a:ext cx="1779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556000" y="4221000"/>
            <a:ext cx="23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324000" y="907920"/>
          <a:ext cx="8729640" cy="4989600"/>
        </p:xfrm>
        <a:graphic>
          <a:graphicData uri="http://schemas.openxmlformats.org/drawingml/2006/table">
            <a:tbl>
              <a:tblPr/>
              <a:tblGrid>
                <a:gridCol w="228600"/>
                <a:gridCol w="617400"/>
                <a:gridCol w="665280"/>
                <a:gridCol w="720720"/>
                <a:gridCol w="863640"/>
                <a:gridCol w="1008000"/>
                <a:gridCol w="441360"/>
                <a:gridCol w="423720"/>
                <a:gridCol w="469800"/>
                <a:gridCol w="182520"/>
                <a:gridCol w="322560"/>
                <a:gridCol w="249120"/>
                <a:gridCol w="469800"/>
                <a:gridCol w="182520"/>
                <a:gridCol w="182520"/>
                <a:gridCol w="239760"/>
                <a:gridCol w="411120"/>
                <a:gridCol w="182880"/>
                <a:gridCol w="868320"/>
              </a:tblGrid>
              <a:tr h="419040"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ерхний предел муниципального долга на 01.01.2015 г. - 0,0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 т.ч. верхний предел долга по муниципальным гарантиям - 0,00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едельный объем муниципального долга на 2014 год - 34 071 980,56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уб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№</a:t>
                      </a: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/№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ата регистрации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егистрационный код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именование кредитор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именование заемщик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орма обеспечения обязательства, № и дата договора залога/ контргарантии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снование возникновения долгового обязательств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сполнение или прекращение долгового обязательства (полное/частичное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статок долгового обязательства (непогашенный кредит, неиспользованная гарантия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ид, номер и дата документа (договора и.тд.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умм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ата/срок погашения (график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снование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ат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умм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. Кредитные соглашения и договоры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000"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. Муниципальные займы Ермаковского района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                                                   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. Договоры и соглашения о получении бюджетных ссуд и бюджетных кредитов                                   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560"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. Договоры о предоставлении муниципальных гарантий Ермаковского района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                             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56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ТОГО ПО КНИГ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ая роспись - документ, который составляется и ведется главным распорядителем бюджетных средств (главным администратором источников финансирования дефицита бюджета) в целях исполнения бюджета по расходам (источникам финансирования дефицита бюдже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ая система Российской Федерации - совокупность федерального бюджета, бюджетов субъектов РФ, местных бюджетов и бюджетов государственных внебюджетных фон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ое обязательство- расходные обязательства, подлежащие исполнению в соответствующем финансовом г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ое учреждение - некоммерческая организация, созданная РФ, субъектом РФ или муниципальным образованием для выполнения работ, оказания услуг в сферах науки, образования, здравоохранения, культуры, социальной защиты, занятости населения, физической культуры и спорта, а также в иных сфер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ые ассигнования - предельные объемы денежных средств, предусмотренные в соответствующем финансовом году для исполнения бюджетных обязательст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ые инвестиции - бюджетные средства, направляемые на создание или увеличение стоимости государственного (муниципального) имуще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 программный - бюджет, сформированный на основе государственных (муниципальных) программ. Программный бюджет обеспечивает прямую взаимосвязь между распределением бюджетных ресурсов и результатами их использования в соответствии с установленными приоритетами государственной полит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юджетный процесс - деятельность по подготовке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юджет субъекта Российской Федерации - форма образования и расходования денежных средств, предназначенных для финансирования функций, отнесенных к предметам ведения субъекта РФ.  Основной финансовый документ региона, утверждается на один год или на три года и имеет силу зак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омственная структура расходов бюджета  - Распределение бюджетных средств по главным распорядителям бюджетных средств, по разделам, подразделам, целевым статьям и видам расходов, либо по целевым статьям (государственным (муниципальным) программам и непрограммным направлениям деятельности), группам (группам и подгруппам) видов расходов классификации расходов бюдже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омственная целевая программа - документ, определяющий цели и задачи органов исполнительной власти края в области социально-экономического развития региона при осуществлении государственной политики в конкретных сферах деятельности, отраслях, видах экономической деятельности. Содержит комплекс необходимых мероприятий с указанием обеспечения финансовыми ресурсами, ожидаемых результатов и сроков реализ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ешний долг - долг, выраженный в иностранной валюте. В объем внешнего долга не включается долг субъектов РФ и муниципальных образований перед РФ, выраженный в иностранной валю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енний долг - долг, выраженный в валюте РФ (рублях), а также долг субъектов РФ и муниципальных образований перед РФ, выраженный в иностранной валю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лавный администратор доходов бюджета - орган государственной власти (местного самоуправления), орган управления государственным внебюджетным фондом, Центральный банк РФ, казенное учреждение, имеющие в своем ведении администраторов доходов бюджет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авный распорядитель бюджетных средств (ГРБС) - орган государственной власти (местного самоуправления), орган управления государственным внебюджетным фондом, или наиболее значимое учреждение науки, образования, культуры и здравоохранения, напрямую получающий(ее) средства из бюджета и наделенный правом распределять их между подведомственными распорядителями и получателями бюджетных средст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осударственная или муниципальная гарантия - вид долгового обязательства государства (муниципального образования). Предполагает обязанность государства (муниципального образования) уплатить кредитору определенную денежную сумму за должника за счет средств соответствующего бюджета при наступлении гарантийного случ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сударственное (муниципальное) задание - документ, содержащий требования к составу, качеству, объему, условиям, порядку и результатам оказания государственных (муниципальных) услуг (выполнения работ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сударственные (муниципальные) услуги (работы) - услуги (работы), оказываемые (выполняемые) органами государственной власти (органами местного самоуправления), государственными (муниципальными) учреждениям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сударственный долг - обязательства РФ, субъекта РФ по полученным кредитам, выпущенным ценным бумагам, предоставленным гарантиям перед третьими лицам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фицит бюджета- превышение расходов бюджета над его доход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тации - финансовая помощь территориям, размер которой рассчитывается по установленной методике. Поскольку стартовые возможности в муниципальных образованиях различны (численность населения, транспортная доступность, климатические условия и т.д.), дотации нацелены на выравнивание этих условий. Таким образом, неравные финансовые возможности территорий приводятся к «общему знаменателю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ходы бюджета - поступающие от населения, организаций, учреждений в бюджет денежные средства в виде налогов, неналоговых поступлений (пошлины, доходы от продажи имущества, штрафы и т.п.), безвозмездных поступлений,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средства от продажи акций, остатки средств на начало периода не включаются в состав дохо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точники финансирования дефицита бюджета - средства, привлекаемые в бюджет для покрытия дефицита (кредиты банков, кредиты от других уровней бюджетов, выпуск ценных бумаг, средства от продажи акций, остатки средств на начало года, иные источник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зенное учреждение - государственное (муниципальное) учреждение, финансовое обеспечение деятельности которого осуществляется за счет средств соответствующего бюджета на основании бюджетной сме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миты бюджетных обязательств - объем прав (в денежном выражении) по принятию и исполнению казенным учреждением бюджетных обязательств в текущем финансовом году и плановом пери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бюджетные отношения - взаимоотношения между РФ, субъектами РФ и муниципальными образованиями по вопросам осуществления бюджетного проце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бюджетные трансферты - средства, предоставляемые одним бюджетом бюджетной системы РФ другому бюдже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ый долг - совокупность долговых обязательств муниципального образования (кредитные соглашения и договоры, заключенные муниципальным образованием; займы муниципального образования, осуществляемые путем выпуска ценных бумаг от имени муниципального образования и др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снование бюджетных ассигнований - документ, содержащий информацию о бюджетных средствах в очередном финансовом году (и плановом период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четный финансовый год - год, предшествующий текущему финансовому г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чередной финансовый год - год, следующий за текущим финансовым го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овый период - два финансовых года, следующие за очередным финансовым год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учатель бюджетных средств - орган государственной власти (местного самоуправления), орган управления государственным внебюджетным фондом, казенное учреждение, исполняющие свои функции за счет средств соответствующего бюдже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ные расходы - расходы, включенные в государственные (муниципальные) програм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фицит бюджета - превышение доходов бюджета над его расход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8920" y="0"/>
            <a:ext cx="8713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рядитель бюджетных средств - орган государственной власти (местного самоуправления), орган управления государственным внебюджетным фондом, или казенное учреждение, имеющий право распределять бюджетные средства по подведомственным распорядителям или получателям бюджетных средст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ходное обязательство - обязанность РФ, субъекта РФ или муниципального образования предоставить физическому или юридическому лицу, иному уровню бюджета, международной организации средства из соответствующего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одная бюджетная роспись - документ, который составляется и ведется финансовым органом (органом управления государственным внебюджетным фондом) в целях организации исполнения бюджета по расходам бюджета и источникам финансирования дефицита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бсидия (местным бюджетам из бюджета субъекта Российской Федерации) - целевые средства на решение приоритетных задач территорий при условии обязательного участия средств местных бюджетов. Например, субсидии на строительство детских садов, капитальный ремонт дорог, летний отдых детей и многое друг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ущий финансовый год - год, в котором осуществляется исполнение бюджета, составление и рассмотрение проекта бюджета на очередной финансовый год и плановый перио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нансовый орган - на федеральном уровне – Министерство финансов РФ. На уровне субъекта РФ – орган исполнительной власти, осуществляющий составление и организацию исполнения бюджета субъектов РФ (в Красноярском крае – министерство финансов Красноярского края). На местном уровне – органы (должностные лица) местных администраций, осуществляющие составление и организацию исполнения местных бюджетов (департамент финансов, управление финансов, финансовый отдел и др.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0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стники бюджетного процесса 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 Участниками бюджетного процесса в Красноярском крае являются: Губернатор края; Законодательное Собрание края; Правительство края; финансовый орган края; Счетная палата края; органы исполнительной власти края, наделенные полномочиями по осуществлению финансового контроля; главные распорядители (распорядители), получатели бюджетных средств; главные администраторы (администраторы) доходов бюджета; главные администраторы (администраторы) источников финансирования дефицита бюджета; орган управления Территориального фонда обязательного медицинского страхования Красноярского кра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2:15:02Z</dcterms:created>
  <dc:creator>30101</dc:creator>
  <dc:description/>
  <dc:language>en-US</dc:language>
  <cp:lastModifiedBy>Кравченко Наталья</cp:lastModifiedBy>
  <dcterms:modified xsi:type="dcterms:W3CDTF">2015-01-29T03:24:06Z</dcterms:modified>
  <cp:revision>220</cp:revision>
  <dc:subject/>
  <dc:title>Параметры и принципы формирования бюджета на 2007 год  Основные направления бюджетной и налоговой политики Красноярского края на 2007 год</dc:title>
</cp:coreProperties>
</file>