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13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23.wmf" ContentType="image/x-wmf"/>
  <Override PartName="/ppt/media/image22.wmf" ContentType="image/x-wmf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9871075" cy="6735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0" y="0"/>
            <a:ext cx="9871200" cy="673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dt" idx="13"/>
          </p:nvPr>
        </p:nvSpPr>
        <p:spPr>
          <a:xfrm>
            <a:off x="558972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sldImg"/>
          </p:nvPr>
        </p:nvSpPr>
        <p:spPr>
          <a:xfrm>
            <a:off x="3254040" y="506160"/>
            <a:ext cx="3365640" cy="252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body"/>
          </p:nvPr>
        </p:nvSpPr>
        <p:spPr>
          <a:xfrm>
            <a:off x="985320" y="3200400"/>
            <a:ext cx="789804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ftr" idx="14"/>
          </p:nvPr>
        </p:nvSpPr>
        <p:spPr>
          <a:xfrm>
            <a:off x="0" y="639720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 type="sldNum" idx="15"/>
          </p:nvPr>
        </p:nvSpPr>
        <p:spPr>
          <a:xfrm>
            <a:off x="5589720" y="639720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4C09-F920-497B-9B9B-90F86069E69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3254400" y="5065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1316160" y="3200400"/>
            <a:ext cx="723744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Развитие бюджета Красноярского края характеризуется постоянным ростом объема доходов и расходов бюджета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Размер дефицита не превышает 15% объемов доходов  края без учета финансовой помощи  из федерального бюджета (ст. 92 Бюджетного кодекса РФ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В 2003 г. дефицит бюджета Красноярского края сложился в сумме -3 480,4 млрд.рублей. (10,7% от доходов без финансовой помощи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Покрытие дефицита бюджета 2003 г. осуществляется за счет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Monotype Sorts"/>
                <a:ea typeface="Monotype Sorts"/>
              </a:rPr>
              <a:t>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 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банковских кредитов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Monotype Sorts"/>
                <a:ea typeface="Monotype Sorts"/>
              </a:rPr>
              <a:t>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 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выпуска облигаций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Monotype Sorts"/>
                <a:ea typeface="Monotype Sorts"/>
              </a:rPr>
              <a:t>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 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продажи государственного и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     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муниципального имуществ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3254400" y="5065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1316160" y="3200400"/>
            <a:ext cx="723744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Развитие бюджета Красноярского края характеризуется постоянным ростом объема доходов и расходов бюджета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Размер дефицита не превышает 15% объемов доходов  края без учета финансовой помощи  из федерального бюджета (ст. 92 Бюджетного кодекса РФ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В 2003 г. дефицит бюджета Красноярского края сложился в сумме -3 480,4 млрд.рублей. (10,7% от доходов без финансовой помощи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Покрытие дефицита бюджета 2003 г. осуществляется за счет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Monotype Sorts"/>
                <a:ea typeface="Monotype Sorts"/>
              </a:rPr>
              <a:t>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 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банковских кредитов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Monotype Sorts"/>
                <a:ea typeface="Monotype Sorts"/>
              </a:rPr>
              <a:t>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 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выпуска облигаций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Monotype Sorts"/>
                <a:ea typeface="Monotype Sorts"/>
              </a:rPr>
              <a:t>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 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продажи государственного и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     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муниципального имуществ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3254400" y="5065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1316160" y="3200400"/>
            <a:ext cx="723744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Развитие бюджета Красноярского края характеризуется постоянным ростом объема доходов и расходов бюджета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Размер дефицита не превышает 15% объемов доходов  края без учета финансовой помощи  из федерального бюджета (ст. 92 Бюджетного кодекса РФ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В 2003 г. дефицит бюджета Красноярского края сложился в сумме -3 480,4 млрд.рублей. (10,7% от доходов без финансовой помощи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Покрытие дефицита бюджета 2003 г. осуществляется за счет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Monotype Sorts"/>
                <a:ea typeface="Monotype Sorts"/>
              </a:rPr>
              <a:t>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 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банковских кредитов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Monotype Sorts"/>
                <a:ea typeface="Monotype Sorts"/>
              </a:rPr>
              <a:t>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 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выпуска облигаций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Monotype Sorts"/>
                <a:ea typeface="Monotype Sorts"/>
              </a:rPr>
              <a:t>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 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продажи государственного и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     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муниципального имуществ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3254400" y="506520"/>
            <a:ext cx="3365640" cy="252396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85320" y="3200400"/>
            <a:ext cx="789804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ADC2-C2EA-41FD-98E2-150716AE9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B64C-BD79-4E07-B44C-6CDBCC8E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19D6-C553-41E6-8CE0-FD166E50A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7304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5092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7304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480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4457-7101-43AB-AA22-1C5D3E7A6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10CB-B322-4DCE-98AA-93A0BA3F6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6BBA-D5A7-45A4-BD7E-E810AE03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BA01-E196-4D53-A6ED-72B79092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803F-E8E4-455D-BF04-4694D779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77E1-B445-4ED5-B05D-2FE783F5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250920" y="277560"/>
            <a:ext cx="864216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6828-113B-4708-A4CC-9FF9A9AD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295F-E09F-4591-B8D4-BC3A022E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2F2D-1150-47F0-85F1-7A534BAC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9599-CCAF-4F74-BE81-0E65C608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DA91-D539-4B7A-8E90-6524E8B7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3BCA-A965-4646-9A08-7517BFD2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81724-94F8-46CE-99F8-EEC53846F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17304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25092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17304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9480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9C278-18B8-49E8-B609-862AEE794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CED4-5A09-490E-880D-198EEDC6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250920" y="277560"/>
            <a:ext cx="864216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17304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9480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25092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17304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9480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A677A-76AE-4AA9-8399-083423570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0579B-9D57-4622-BC40-7D5D2C0B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18B5D-1F9D-473C-942C-CD346844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EA4D-B7CB-40A9-82D4-A6A171B2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686EA-80DE-4C39-B2B9-2BC6A066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42A3F-2A3B-49BF-A17F-523F8AF4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250920" y="277560"/>
            <a:ext cx="864216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60B04-00E8-4E0D-AC74-4E681B71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EC29D-0CB1-4EB5-B6DF-05D3BEC7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D7815-BC1F-48A2-8849-9FDE91C3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3C86D-91FE-4725-90C6-9672D85B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4C8AE-44AC-4941-BC60-0A50E421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6C906-AFB6-4976-9654-3D023C0B7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17304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9480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25092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17304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9480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8051A-426B-453A-96E7-69B4AF9AD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4995-94E6-4E7C-AAA3-4B31EB4F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250920" y="277560"/>
            <a:ext cx="864216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50920" y="277560"/>
            <a:ext cx="864216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F827-FE63-42C7-A778-632FBF04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17304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25092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17304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9480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55078-5201-4F5B-B8A6-8A4323A54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AEF40-795E-4324-B13E-31B3C7A4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14BB4-189C-4E6C-83CB-1A211E01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28EF4-BD34-4168-9889-340092A6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F3F8D-0F29-4895-9992-F76D00FE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250920" y="277560"/>
            <a:ext cx="864216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13E0D-7E1E-4228-9A10-E80E7B1C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A1E8B-5050-4DCC-92D7-22F2B10D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B8F99-B136-466D-8833-16C4A0C4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4616C-4BD2-4D62-83EB-AD84E17F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C5EC-0860-48B6-BA7F-04C01505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B2955-99A5-4E81-B8A3-4D933347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71EB3-7FBF-4BE5-80C6-C7D1F3F4C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17304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9480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25092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17304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09480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FDD73-A53C-42DD-B625-0D8F7D695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A65A-6CFC-4A24-A4B7-C3EB37ED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7C5E-CA7C-40EE-8A5E-A4E00818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9A33-2366-4571-BC60-0084C6BCA2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581A-78BB-4C19-8274-15DBD11B3F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3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0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2360" y="277560"/>
            <a:ext cx="863928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252360" y="1160640"/>
            <a:ext cx="8639280" cy="4970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marL="341280" indent="-341280"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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2600">
              <a:spcBef>
                <a:spcPts val="451"/>
              </a:spcBef>
              <a:buClr>
                <a:srgbClr val="ffff99"/>
              </a:buClr>
              <a:buSzPct val="120000"/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1560" indent="-22860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058840" indent="-23004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2058840" indent="-23004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2058840" indent="-23004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4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7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70F936F-F636-4D25-87B4-140765F7D7C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2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2d361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23c1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36402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856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4512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c48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59683a"/>
                </a:gs>
                <a:gs pos="100000">
                  <a:srgbClr val="546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d361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856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2f39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a452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d6c3f"/>
                </a:gs>
                <a:gs pos="100000">
                  <a:srgbClr val="5464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62e1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a331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84322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637146"/>
                </a:gs>
                <a:gs pos="100000">
                  <a:srgbClr val="5464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391d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b1e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53f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23c1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6542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8301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654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84322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039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c4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14e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5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6434"/>
                  </a:gs>
                  <a:gs pos="100000">
                    <a:srgbClr val="3c482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37146"/>
                  </a:gs>
                  <a:gs pos="100000">
                    <a:srgbClr val="546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5b3b1"/>
              </a:buClr>
              <a:buSzPct val="15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99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2d361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23c1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36402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856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4512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c48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59683a"/>
                </a:gs>
                <a:gs pos="100000">
                  <a:srgbClr val="546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d361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856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2f39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a452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d6c3f"/>
                </a:gs>
                <a:gs pos="100000">
                  <a:srgbClr val="5464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62e1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a331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84322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637146"/>
                </a:gs>
                <a:gs pos="100000">
                  <a:srgbClr val="5464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391d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b1e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53f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23c1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6542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8301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654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84322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039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c4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14e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36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6434"/>
                  </a:gs>
                  <a:gs pos="100000">
                    <a:srgbClr val="3c482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37146"/>
                  </a:gs>
                  <a:gs pos="100000">
                    <a:srgbClr val="546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BCDA-0B62-4914-803C-7E6B05B885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hyperlink" Target="mailto:ermakfin@mail.ru" TargetMode="External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12944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spcBef>
                <a:spcPts val="1701"/>
              </a:spcBef>
              <a:spcAft>
                <a:spcPts val="14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3300"/>
                </a:solidFill>
                <a:latin typeface="Arial"/>
              </a:rPr>
              <a:t>Бюджет для граждан Ермаковского района на 20</a:t>
            </a:r>
            <a:r>
              <a:rPr b="1" lang="en-US" sz="17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ru-RU" sz="1700" spc="-1" strike="noStrike">
                <a:solidFill>
                  <a:srgbClr val="003300"/>
                </a:solidFill>
                <a:latin typeface="Arial"/>
              </a:rPr>
              <a:t>4 год и плановый период 2015-2016</a:t>
            </a:r>
            <a:br>
              <a:rPr sz="1700"/>
            </a:br>
            <a:r>
              <a:rPr b="1" lang="ru-RU" sz="1700" spc="-1" strike="noStrike">
                <a:solidFill>
                  <a:srgbClr val="003300"/>
                </a:solidFill>
                <a:latin typeface="Arial"/>
              </a:rPr>
              <a:t>годов</a:t>
            </a:r>
            <a:br>
              <a:rPr sz="1700"/>
            </a:br>
            <a:endParaRPr b="0" lang="en-US" sz="17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1619280" y="1197000"/>
            <a:ext cx="5865840" cy="526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78920" y="0"/>
            <a:ext cx="8713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порядитель бюджетных средств - орган государственной власти (местного самоуправления), орган управления государственным внебюджетным фондом, или казенное учреждение, имеющий право распределять бюджетные средства по подведомственным распорядителям или получателям бюджетных средст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ходное обязательство - обязанность РФ, субъекта РФ или муниципального образования предоставить физическому или юридическому лицу, иному уровню бюджета, международной организации средства из соответствующего бюдже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водная бюджетная роспись - документ, который составляется и ведется финансовым органом (органом управления государственным внебюджетным фондом) в целях организации исполнения бюджета по расходам бюджета и источникам финансирования дефицита бюдже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бсидия (местным бюджетам из бюджета субъекта Российской Федерации) - целевые средства на решение приоритетных задач территорий при условии обязательного участия средств местных бюджетов. Например, субсидии на строительство детских садов, капитальный ремонт дорог, летний отдых детей и многое друго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кущий финансовый год - год, в котором осуществляется исполнение бюджета, составление и рассмотрение проекта бюджета на очередной финансовый год и плановый период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нансовый орган - на федеральном уровне – Министерство финансов РФ. На уровне субъекта РФ – орган исполнительной власти, осуществляющий составление и организацию исполнения бюджета субъектов РФ (в Красноярском крае – министерство финансов Красноярского края). На местном уровне – органы (должностные лица) местных администраций, осуществляющие составление и организацию исполнения местных бюджетов (департамент финансов, управление финансов, финансовый отдел и др.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30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0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0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30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4000"/>
                            </p:stCondLst>
                            <p:childTnLst>
                              <p:par>
                                <p:cTn id="4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30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30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30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0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7000"/>
                            </p:stCondLst>
                            <p:childTnLst>
                              <p:par>
                                <p:cTn id="4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30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30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0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30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3000" fill="hold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000" fill="hold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3000" fill="hold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3000" fill="hold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3000" fill="hold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3000" fill="hold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3000" fill="hold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3000" fill="hold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3000" fill="hold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000" fill="hold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000" fill="hold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3000" fill="hold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астники бюджетного процесса - субъекты, осуществляющие деятельность по составлению и рассмотрению проектов бюджетов, утверждению и исполнению бюджетов, контролю за их исполнением, осуществлению бюджетного учета, составлению, внешней проверке, рассмотрению и утверждению бюджетной отчетности. Участниками бюджетного процесса в Красноярском крае являются: Губернатор края; Законодательное Собрание края; Правительство края; финансовый орган края; Счетная палата края; органы исполнительной власти края, наделенные полномочиями по осуществлению финансового контроля; главные распорядители (распорядители), получатели бюджетных средств; главные администраторы (администраторы) доходов бюджета; главные администраторы (администраторы) источников финансирования дефицита бюджета; орган управления Территориального фонда обязательного медицинского страхования Красноярского кра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30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0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30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30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Принципы формирования расходов  бюджета</a:t>
            </a:r>
            <a:br>
              <a:rPr sz="2800"/>
            </a:b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на 20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4 год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7f6ff"/>
                </a:solidFill>
                <a:latin typeface="Arial"/>
              </a:rPr>
              <a:t>Индексация прочих расходов на 5 %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7f6ff"/>
                </a:solidFill>
                <a:latin typeface="Arial"/>
              </a:rPr>
              <a:t>Снижение расходов на закупку товаров, работ и услуг для муниципальных нужд       на 5 %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7f6ff"/>
                </a:solidFill>
                <a:latin typeface="Arial"/>
              </a:rPr>
              <a:t>Увеличение фонда оплаты труда работников бюджетной сферы с 1 октября 2014 года на 5%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7f6ff"/>
                </a:solidFill>
                <a:latin typeface="Arial"/>
              </a:rPr>
              <a:t>Увеличение фонда оплаты труда выборных должностных лиц и муниципальных служащих на 5,0% с 1 октября 2014 года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7f6ff"/>
                </a:solidFill>
                <a:latin typeface="Arial"/>
              </a:rPr>
              <a:t>Индексация расходов на коммунальные услуги на 10,5%  (при этом указанные расходы должны быть скорректированы  на ожидаемую экономию бюджетных средств от внедрения энергосберегающих технологий на 3%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7f6ff"/>
                </a:solidFill>
                <a:latin typeface="Arial"/>
              </a:rPr>
              <a:t>Обеспечение увеличения фонда оплаты труда в соответствии с указом Президента РФ на 10% с 1 января 2014 года за счет перераспределения расходов  внутри отрасли педагогическим работникам учреждений дополнительного образования детей и работникам учреждений культуры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06360" y="116352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30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30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0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0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30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30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0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30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30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30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30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30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30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30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30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30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30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30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30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0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3000" fill="hold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3000" fill="hold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3000" fill="hold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3000" fill="hold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7164360" y="1052640"/>
            <a:ext cx="1682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лн. руб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351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Основные параметры районного бюджета МО «Ермаковский район» на 2014 год и плановый период 2015-2016 гг.</a:t>
            </a:r>
            <a:endParaRPr b="1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06360" y="79848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324000" y="1052640"/>
            <a:ext cx="2288160" cy="243720"/>
            <a:chOff x="324000" y="1052640"/>
            <a:chExt cx="2288160" cy="243720"/>
          </a:xfrm>
        </p:grpSpPr>
        <p:pic>
          <p:nvPicPr>
            <p:cNvPr id="514" name="" descr=""/>
            <p:cNvPicPr/>
            <p:nvPr/>
          </p:nvPicPr>
          <p:blipFill>
            <a:blip r:embed="rId2"/>
            <a:stretch/>
          </p:blipFill>
          <p:spPr>
            <a:xfrm>
              <a:off x="324000" y="1100160"/>
              <a:ext cx="123840" cy="1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324000" y="1100160"/>
              <a:ext cx="123840" cy="123840"/>
            </a:xfrm>
            <a:prstGeom prst="rect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46120" y="1052640"/>
              <a:ext cx="806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Доход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17" name="" descr=""/>
            <p:cNvPicPr/>
            <p:nvPr/>
          </p:nvPicPr>
          <p:blipFill>
            <a:blip r:embed="rId3"/>
            <a:stretch/>
          </p:blipFill>
          <p:spPr>
            <a:xfrm>
              <a:off x="1492200" y="1090440"/>
              <a:ext cx="123840" cy="1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"/>
            <p:cNvSpPr/>
            <p:nvPr/>
          </p:nvSpPr>
          <p:spPr>
            <a:xfrm>
              <a:off x="1492200" y="1090440"/>
              <a:ext cx="123840" cy="1238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712160" y="1052640"/>
              <a:ext cx="900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Расход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0" name=""/>
          <p:cNvSpPr/>
          <p:nvPr/>
        </p:nvSpPr>
        <p:spPr>
          <a:xfrm flipV="1">
            <a:off x="582480" y="5697360"/>
            <a:ext cx="8021880" cy="50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4"/>
          <a:stretch/>
        </p:blipFill>
        <p:spPr>
          <a:xfrm>
            <a:off x="1187280" y="3718080"/>
            <a:ext cx="947880" cy="194292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 flipV="1" rot="10678800">
            <a:off x="1157040" y="3353400"/>
            <a:ext cx="884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26,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2765520" y="5692680"/>
            <a:ext cx="3240" cy="619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5"/>
          <a:stretch/>
        </p:blipFill>
        <p:spPr>
          <a:xfrm>
            <a:off x="2119320" y="3645000"/>
            <a:ext cx="934920" cy="202572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2119320" y="3645000"/>
            <a:ext cx="934920" cy="2025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146320" y="3357720"/>
            <a:ext cx="1009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27,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737000" y="5845320"/>
            <a:ext cx="84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14 го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6"/>
          <a:stretch/>
        </p:blipFill>
        <p:spPr>
          <a:xfrm>
            <a:off x="3621240" y="2925720"/>
            <a:ext cx="936360" cy="273672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3621240" y="2925720"/>
            <a:ext cx="936360" cy="273672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V="1" rot="10678800">
            <a:off x="3619080" y="2632680"/>
            <a:ext cx="884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73,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5164200" y="5692680"/>
            <a:ext cx="3240" cy="619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7"/>
          <a:stretch/>
        </p:blipFill>
        <p:spPr>
          <a:xfrm>
            <a:off x="4500720" y="2781360"/>
            <a:ext cx="936360" cy="288756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4500720" y="2781360"/>
            <a:ext cx="936360" cy="2887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548240" y="2492280"/>
            <a:ext cx="1009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75,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135680" y="5845320"/>
            <a:ext cx="84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15 го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8"/>
          <a:stretch/>
        </p:blipFill>
        <p:spPr>
          <a:xfrm>
            <a:off x="6084720" y="1917720"/>
            <a:ext cx="973440" cy="374472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 flipV="1" rot="10678800">
            <a:off x="6079680" y="1625040"/>
            <a:ext cx="88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812,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7664400" y="5692680"/>
            <a:ext cx="3240" cy="619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9"/>
          <a:stretch/>
        </p:blipFill>
        <p:spPr>
          <a:xfrm>
            <a:off x="7020000" y="1773360"/>
            <a:ext cx="936720" cy="389556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7020000" y="1773360"/>
            <a:ext cx="936720" cy="388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020000" y="1484280"/>
            <a:ext cx="1011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813,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636240" y="5845320"/>
            <a:ext cx="84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16 го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084720" y="1917720"/>
            <a:ext cx="935280" cy="375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635280" y="2924280"/>
            <a:ext cx="865440" cy="2744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187280" y="3716280"/>
            <a:ext cx="935280" cy="1954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950"/>
                            </p:stCondLst>
                            <p:childTnLst>
                              <p:par>
                                <p:cTn id="5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Доходы районного бюджета МО «Ермаковский район»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611280" y="1413000"/>
          <a:ext cx="7993080" cy="4944960"/>
        </p:xfrm>
        <a:graphic>
          <a:graphicData uri="http://schemas.openxmlformats.org/drawingml/2006/table">
            <a:tbl>
              <a:tblPr/>
              <a:tblGrid>
                <a:gridCol w="4052880"/>
                <a:gridCol w="1311120"/>
                <a:gridCol w="1316160"/>
                <a:gridCol w="1312920"/>
              </a:tblGrid>
              <a:tr h="294120"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20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20</a:t>
                      </a:r>
                      <a:r>
                        <a:rPr b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Налог на прибыль организац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9,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0,7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6,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Налог на доходы физических ли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1 207,4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4 154,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1 593,5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Налоги на совокупный дох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  475,4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 807,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 162,5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Акцизы по продаже товаров (продукции), произведенных на территории РФ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1,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3,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2,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94392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оходы от использования имущества, находящегося в государственной и     муниципальной собственн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156,4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635,7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853,6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Государственная пошли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9,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8,7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8,8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рочие дох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080,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230,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382,6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46476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Безвозмездные поступления  из краевого бюдже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2 547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6 949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7 386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Межбюджетные трансферты от поселе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175,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374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535,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рочие безвозмездные поступл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 376,9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 687,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492480">
                <a:tc>
                  <a:txBody>
                    <a:bodyPr lIns="0" rIns="0" tIns="10800" bIns="10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6 412,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73 363,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2 479,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8" name=""/>
          <p:cNvSpPr/>
          <p:nvPr/>
        </p:nvSpPr>
        <p:spPr>
          <a:xfrm>
            <a:off x="7380360" y="907920"/>
            <a:ext cx="15494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тыс. руб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24000" y="981000"/>
            <a:ext cx="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06360" y="79848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6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6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6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6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250920" y="0"/>
            <a:ext cx="86040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500" spc="-1" strike="noStrike">
                <a:solidFill>
                  <a:srgbClr val="ffffcc"/>
                </a:solidFill>
                <a:latin typeface="Arial"/>
              </a:rPr>
              <a:t>Распределение расходов районного бюджета по муниципальным программам на 20</a:t>
            </a: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ru-RU" sz="2500" spc="-1" strike="noStrike">
                <a:solidFill>
                  <a:srgbClr val="ffffcc"/>
                </a:solidFill>
                <a:latin typeface="Arial"/>
              </a:rPr>
              <a:t>4-2016 год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50920" y="1052640"/>
            <a:ext cx="255564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0" anchor="t">
            <a:noAutofit/>
          </a:bodyPr>
          <a:p>
            <a:pPr marL="341280" indent="-341280">
              <a:lnSpc>
                <a:spcPct val="140000"/>
              </a:lnSpc>
              <a:spcBef>
                <a:spcPts val="451"/>
              </a:spcBef>
              <a:buClr>
                <a:srgbClr val="85b3b1"/>
              </a:buClr>
              <a:buSzPct val="150000"/>
              <a:buFont typeface="Wingdings" charset="2"/>
              <a:buChar char="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06360" y="85104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631280" y="2147760"/>
            <a:ext cx="1512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9 905,8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91280" y="2147760"/>
            <a:ext cx="1440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9 905,8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751280" y="2147760"/>
            <a:ext cx="1440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8 660,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50920" y="2147760"/>
            <a:ext cx="4500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Развитие культуры Ермаков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631280" y="5522760"/>
            <a:ext cx="1512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191280" y="5522760"/>
            <a:ext cx="1440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751280" y="5522760"/>
            <a:ext cx="1440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50920" y="5522760"/>
            <a:ext cx="4500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Развитие электронного муниципалитета в Ермаковском район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631280" y="6039000"/>
            <a:ext cx="15127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191280" y="6039000"/>
            <a:ext cx="1440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751280" y="6039000"/>
            <a:ext cx="1440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50920" y="6039000"/>
            <a:ext cx="45003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Поддержка и развитие малого и среднего предпринимательства в Ермаковском район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631280" y="4794120"/>
            <a:ext cx="15127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 923,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191280" y="4794120"/>
            <a:ext cx="1440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 050,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751280" y="4794120"/>
            <a:ext cx="1440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 089,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50920" y="4794120"/>
            <a:ext cx="45003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Обеспечение безопасности жизнедеятельности населения территории Ермаков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191280" y="4065480"/>
            <a:ext cx="1440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 284,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191280" y="354960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 506,7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191280" y="303372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 513,4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191280" y="251784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70 542,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191280" y="163188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25 088,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191280" y="1268280"/>
            <a:ext cx="1440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20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631280" y="4065480"/>
            <a:ext cx="15127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 306,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751280" y="4065480"/>
            <a:ext cx="1440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 235,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50920" y="4065480"/>
            <a:ext cx="45003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Реформирование и модернизация ЖКХ и повышение энергетической эффективности Ермаков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631280" y="3549600"/>
            <a:ext cx="1512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 667,2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751280" y="354960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 474,7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50920" y="3549600"/>
            <a:ext cx="4500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Молодежь Ермаковского района в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XXI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век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7631280" y="3033720"/>
            <a:ext cx="1512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 513,4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751280" y="303372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 387,2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50920" y="3033720"/>
            <a:ext cx="4500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Развитие физической культуры, спорта, туризма Ермаков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7631280" y="2517840"/>
            <a:ext cx="1512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60 953,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716360" y="249228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61 754,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50920" y="2517840"/>
            <a:ext cx="4500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Система социальной защиты населения Ермаков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631280" y="1631880"/>
            <a:ext cx="1512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51 957,5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716360" y="1628640"/>
            <a:ext cx="1440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06 692,8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50920" y="1628640"/>
            <a:ext cx="4500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Развитие образования Ермаков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631280" y="1268280"/>
            <a:ext cx="1512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751280" y="1268280"/>
            <a:ext cx="1440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042920" y="1268280"/>
            <a:ext cx="37083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85840" y="1268280"/>
            <a:ext cx="8858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85840" y="676764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85840" y="1268280"/>
            <a:ext cx="0" cy="363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85840" y="163188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85840" y="2147760"/>
            <a:ext cx="0" cy="88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85840" y="303372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85840" y="354960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85840" y="4065480"/>
            <a:ext cx="0" cy="728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9144000" y="1268280"/>
            <a:ext cx="0" cy="363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9144000" y="163188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9144000" y="2147760"/>
            <a:ext cx="0" cy="88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9144000" y="303372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9144000" y="354960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9144000" y="4065480"/>
            <a:ext cx="0" cy="728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85840" y="163188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85840" y="214776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85840" y="303372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85840" y="354960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85840" y="406548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85840" y="479412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85840" y="4794120"/>
            <a:ext cx="0" cy="197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9144000" y="4794120"/>
            <a:ext cx="0" cy="197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85840" y="552276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85840" y="603900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85840" y="251784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451640" y="981000"/>
            <a:ext cx="13683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тыс. руб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250920" y="0"/>
            <a:ext cx="86040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500" spc="-1" strike="noStrike">
                <a:solidFill>
                  <a:srgbClr val="ffffcc"/>
                </a:solidFill>
                <a:latin typeface="Arial"/>
              </a:rPr>
              <a:t>Распределение расходов районного бюджета по муниципальным программам на 20</a:t>
            </a: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ru-RU" sz="2500" spc="-1" strike="noStrike">
                <a:solidFill>
                  <a:srgbClr val="ffffcc"/>
                </a:solidFill>
                <a:latin typeface="Arial"/>
              </a:rPr>
              <a:t>4-2016 год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50920" y="1052640"/>
            <a:ext cx="255564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0" anchor="t">
            <a:noAutofit/>
          </a:bodyPr>
          <a:p>
            <a:pPr marL="341280" indent="-341280">
              <a:lnSpc>
                <a:spcPct val="140000"/>
              </a:lnSpc>
              <a:spcBef>
                <a:spcPts val="349"/>
              </a:spcBef>
              <a:buClr>
                <a:srgbClr val="85b3b1"/>
              </a:buClr>
              <a:buSzPct val="150000"/>
              <a:buFont typeface="Wingdings" charset="2"/>
              <a:buChar char="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06360" y="85104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631280" y="2133720"/>
            <a:ext cx="1512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 574,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191280" y="2147760"/>
            <a:ext cx="1440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 575,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751280" y="2147760"/>
            <a:ext cx="1440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 481,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50920" y="2147760"/>
            <a:ext cx="4500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 fontScale="80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Развитие сельского хозяйства Ермаков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631280" y="5516640"/>
            <a:ext cx="1512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 645,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191280" y="5522760"/>
            <a:ext cx="1440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 645,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751280" y="5522760"/>
            <a:ext cx="1440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 685,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50920" y="5522760"/>
            <a:ext cx="4500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 fontScale="90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Обращение с твердыми бытовыми отходами н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территории Ермаков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7631280" y="6039000"/>
            <a:ext cx="15127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741 222,4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191280" y="6039000"/>
            <a:ext cx="1440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723 915,6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751280" y="6039000"/>
            <a:ext cx="1440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696 436,2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50920" y="6129360"/>
            <a:ext cx="45003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Всего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631280" y="4941720"/>
            <a:ext cx="1512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51 477,2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191280" y="4941720"/>
            <a:ext cx="14400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52 620,8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751280" y="4941720"/>
            <a:ext cx="14400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53 154,8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50920" y="4941720"/>
            <a:ext cx="45003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Управление муниципальными финанса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156360" y="4508640"/>
            <a:ext cx="14400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 936,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156360" y="400536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 750,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156360" y="342900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 675,3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227640" y="263700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725,8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191280" y="163188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7 645,2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191280" y="1268280"/>
            <a:ext cx="1440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20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631280" y="4508640"/>
            <a:ext cx="1512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 936,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716360" y="4508640"/>
            <a:ext cx="14400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 867,2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50920" y="4508640"/>
            <a:ext cx="45003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Развитие архивного дела в Ермаковском район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7631280" y="4005360"/>
            <a:ext cx="1512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 750,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788000" y="4005360"/>
            <a:ext cx="143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 750,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50920" y="4005360"/>
            <a:ext cx="4500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Содействие развитию местного самоуправ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7631280" y="3429000"/>
            <a:ext cx="1512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 590,8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716360" y="342900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 884,9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50920" y="3357720"/>
            <a:ext cx="4500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 fontScale="68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Создание условий для строительства социально значимых объектов, а так же обеспечения доступным жильём граждан Ермаков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631280" y="2637000"/>
            <a:ext cx="1512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725,8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716360" y="263700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725,8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50920" y="2637000"/>
            <a:ext cx="4500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Управление муниципальным имуществом и земельными ресурсами Ермаков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631280" y="1631880"/>
            <a:ext cx="1512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7 645,2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751280" y="163188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8 141,2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50920" y="1631880"/>
            <a:ext cx="4500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Развитие транспортной системы Ермаков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631280" y="1268280"/>
            <a:ext cx="1512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751280" y="1268280"/>
            <a:ext cx="1440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042920" y="1268280"/>
            <a:ext cx="37083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85840" y="1268280"/>
            <a:ext cx="8858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85840" y="1268280"/>
            <a:ext cx="0" cy="363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85840" y="163188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85840" y="2147760"/>
            <a:ext cx="0" cy="88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85840" y="303372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85840" y="354960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85840" y="4065480"/>
            <a:ext cx="0" cy="728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9144000" y="1268280"/>
            <a:ext cx="0" cy="363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9144000" y="163188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9144000" y="2147760"/>
            <a:ext cx="0" cy="88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9144000" y="303372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9144000" y="354960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9144000" y="4065480"/>
            <a:ext cx="0" cy="728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85840" y="163188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85840" y="214776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85840" y="321300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85840" y="400536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85840" y="450864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85840" y="501336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85840" y="4794120"/>
            <a:ext cx="0" cy="197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9144000" y="4794120"/>
            <a:ext cx="0" cy="197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85840" y="552276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85840" y="609300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85840" y="256536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596360" y="981000"/>
            <a:ext cx="12967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тыс. руб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7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82036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Основные параметры консолидированного бюджета МО «Ермаковский район» на 2014 год и плановый период 2015-2016 годов</a:t>
            </a: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без учета внутренних оборотов</a:t>
            </a: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    </a:t>
            </a:r>
            <a:endParaRPr b="1" lang="en-US" sz="2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164360" y="1197000"/>
            <a:ext cx="1682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лн. руб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24000" y="105264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24000" y="1197000"/>
            <a:ext cx="2250000" cy="243720"/>
            <a:chOff x="324000" y="1197000"/>
            <a:chExt cx="2250000" cy="243720"/>
          </a:xfrm>
        </p:grpSpPr>
        <p:pic>
          <p:nvPicPr>
            <p:cNvPr id="692" name="" descr=""/>
            <p:cNvPicPr/>
            <p:nvPr/>
          </p:nvPicPr>
          <p:blipFill>
            <a:blip r:embed="rId2"/>
            <a:stretch/>
          </p:blipFill>
          <p:spPr>
            <a:xfrm>
              <a:off x="324000" y="1244520"/>
              <a:ext cx="114120" cy="1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3" name=""/>
            <p:cNvSpPr/>
            <p:nvPr/>
          </p:nvSpPr>
          <p:spPr>
            <a:xfrm>
              <a:off x="324000" y="1244520"/>
              <a:ext cx="114120" cy="1144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38200" y="1197000"/>
              <a:ext cx="806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Доход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95" name="" descr=""/>
            <p:cNvPicPr/>
            <p:nvPr/>
          </p:nvPicPr>
          <p:blipFill>
            <a:blip r:embed="rId3"/>
            <a:stretch/>
          </p:blipFill>
          <p:spPr>
            <a:xfrm>
              <a:off x="1463760" y="1254240"/>
              <a:ext cx="114480" cy="1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"/>
            <p:cNvSpPr/>
            <p:nvPr/>
          </p:nvSpPr>
          <p:spPr>
            <a:xfrm>
              <a:off x="1463760" y="1254240"/>
              <a:ext cx="114480" cy="114120"/>
            </a:xfrm>
            <a:prstGeom prst="rect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674000" y="1197000"/>
              <a:ext cx="900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Расход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6534000" y="2276640"/>
            <a:ext cx="709920" cy="374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7248600" y="2163600"/>
            <a:ext cx="696960" cy="387828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3192480" y="6066000"/>
            <a:ext cx="3240" cy="4896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5848200" y="6066000"/>
            <a:ext cx="3240" cy="4896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8515440" y="6066000"/>
            <a:ext cx="3240" cy="4896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195560" y="4178160"/>
            <a:ext cx="698400" cy="1843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903320" y="4041720"/>
            <a:ext cx="700200" cy="197964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803760" y="3645000"/>
            <a:ext cx="752400" cy="23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516560" y="3506760"/>
            <a:ext cx="753840" cy="251460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755640" y="1628640"/>
            <a:ext cx="8161200" cy="4438800"/>
            <a:chOff x="755640" y="1628640"/>
            <a:chExt cx="8161200" cy="4438800"/>
          </a:xfrm>
        </p:grpSpPr>
        <p:pic>
          <p:nvPicPr>
            <p:cNvPr id="708" name="" descr=""/>
            <p:cNvPicPr/>
            <p:nvPr/>
          </p:nvPicPr>
          <p:blipFill>
            <a:blip r:embed="rId4"/>
            <a:stretch/>
          </p:blipFill>
          <p:spPr>
            <a:xfrm>
              <a:off x="6534000" y="2276640"/>
              <a:ext cx="709920" cy="37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"/>
            <p:cNvSpPr/>
            <p:nvPr/>
          </p:nvSpPr>
          <p:spPr>
            <a:xfrm>
              <a:off x="6666480" y="162864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842,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10" name="" descr=""/>
            <p:cNvPicPr/>
            <p:nvPr/>
          </p:nvPicPr>
          <p:blipFill>
            <a:blip r:embed="rId5"/>
            <a:stretch/>
          </p:blipFill>
          <p:spPr>
            <a:xfrm>
              <a:off x="7248600" y="2163600"/>
              <a:ext cx="696960" cy="387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"/>
            <p:cNvSpPr/>
            <p:nvPr/>
          </p:nvSpPr>
          <p:spPr>
            <a:xfrm>
              <a:off x="7382520" y="162864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843,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55640" y="6066000"/>
              <a:ext cx="816120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13" name="" descr=""/>
            <p:cNvPicPr/>
            <p:nvPr/>
          </p:nvPicPr>
          <p:blipFill>
            <a:blip r:embed="rId6"/>
            <a:stretch/>
          </p:blipFill>
          <p:spPr>
            <a:xfrm>
              <a:off x="1195560" y="4178160"/>
              <a:ext cx="698400" cy="18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"/>
            <p:cNvSpPr/>
            <p:nvPr/>
          </p:nvSpPr>
          <p:spPr>
            <a:xfrm>
              <a:off x="1198440" y="3643200"/>
              <a:ext cx="657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749,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15" name="" descr=""/>
            <p:cNvPicPr/>
            <p:nvPr/>
          </p:nvPicPr>
          <p:blipFill>
            <a:blip r:embed="rId7"/>
            <a:stretch/>
          </p:blipFill>
          <p:spPr>
            <a:xfrm>
              <a:off x="1903320" y="4041720"/>
              <a:ext cx="700200" cy="19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" name=""/>
            <p:cNvSpPr/>
            <p:nvPr/>
          </p:nvSpPr>
          <p:spPr>
            <a:xfrm flipV="1" rot="10806600">
              <a:off x="2028600" y="3637440"/>
              <a:ext cx="650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749,9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17" name="" descr=""/>
            <p:cNvPicPr/>
            <p:nvPr/>
          </p:nvPicPr>
          <p:blipFill>
            <a:blip r:embed="rId8"/>
            <a:stretch/>
          </p:blipFill>
          <p:spPr>
            <a:xfrm>
              <a:off x="3803760" y="3645000"/>
              <a:ext cx="75240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"/>
            <p:cNvSpPr/>
            <p:nvPr/>
          </p:nvSpPr>
          <p:spPr>
            <a:xfrm>
              <a:off x="3807000" y="3103560"/>
              <a:ext cx="731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799,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19" name="" descr=""/>
            <p:cNvPicPr/>
            <p:nvPr/>
          </p:nvPicPr>
          <p:blipFill>
            <a:blip r:embed="rId9"/>
            <a:stretch/>
          </p:blipFill>
          <p:spPr>
            <a:xfrm>
              <a:off x="4516560" y="3506760"/>
              <a:ext cx="75384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4767840" y="310356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800,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1529280" y="6213600"/>
            <a:ext cx="796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cc99"/>
                </a:solidFill>
                <a:latin typeface="Arial"/>
              </a:rPr>
              <a:t>2014 год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199400" y="6213600"/>
            <a:ext cx="796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cc99"/>
                </a:solidFill>
                <a:latin typeface="Arial"/>
              </a:rPr>
              <a:t>2015 год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855120" y="6216480"/>
            <a:ext cx="796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cc99"/>
                </a:solidFill>
                <a:latin typeface="Arial"/>
              </a:rPr>
              <a:t>2016 год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500"/>
                            </p:stCondLst>
                            <p:childTnLst>
                              <p:par>
                                <p:cTn id="62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784836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Доходы консолидированного бюджета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МО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«Ермаковский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                          </a:t>
            </a: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район» в 20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4 году</a:t>
            </a:r>
            <a:r>
              <a:rPr b="0" lang="ru-RU" sz="2500" spc="-1" strike="noStrike">
                <a:solidFill>
                  <a:srgbClr val="ffffcc"/>
                </a:solidFill>
                <a:latin typeface="Arial"/>
              </a:rPr>
              <a:t>          </a:t>
            </a: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                                 </a:t>
            </a: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(млн. рублей)</a:t>
            </a: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50920" y="105264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50920" y="6066000"/>
            <a:ext cx="8642160" cy="792000"/>
          </a:xfrm>
          <a:prstGeom prst="rect">
            <a:avLst/>
          </a:prstGeom>
          <a:solidFill>
            <a:srgbClr val="3366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40503"/>
                </a:solidFill>
                <a:latin typeface="Arial"/>
              </a:rPr>
              <a:t>Консолидированный бюджет                     805,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40503"/>
                </a:solidFill>
                <a:latin typeface="Arial Black"/>
              </a:rPr>
              <a:t>в том числе: внутренние обороты – 55,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324000" y="1413000"/>
            <a:ext cx="8495640" cy="4586760"/>
            <a:chOff x="324000" y="1413000"/>
            <a:chExt cx="8495640" cy="4586760"/>
          </a:xfrm>
        </p:grpSpPr>
        <p:sp>
          <p:nvSpPr>
            <p:cNvPr id="728" name=""/>
            <p:cNvSpPr/>
            <p:nvPr/>
          </p:nvSpPr>
          <p:spPr>
            <a:xfrm>
              <a:off x="324000" y="1413000"/>
              <a:ext cx="2016000" cy="8636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Межбюджетны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трансферты из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краевого бюджет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542,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844720" y="1413000"/>
              <a:ext cx="2015640" cy="8636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Собственны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доходы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районного бюджет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177,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804000" y="1413000"/>
              <a:ext cx="2015640" cy="8636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Собственные доход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поселений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30,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331640" y="3068640"/>
              <a:ext cx="2665080" cy="20160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Районный бюдже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726,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787640" y="2565360"/>
              <a:ext cx="1728720" cy="64764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Субвенция н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передачу полномочий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</a:rPr>
                <a:t>6,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787640" y="3357720"/>
              <a:ext cx="1728720" cy="5029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Субвенци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</a:rPr>
                <a:t>1,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787640" y="3933720"/>
              <a:ext cx="1728720" cy="720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Дотация из районног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фонда финансовой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поддержк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</a:rPr>
                <a:t>18,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19730400">
              <a:off x="1547640" y="2204640"/>
              <a:ext cx="199800" cy="936720"/>
            </a:xfrm>
            <a:prstGeom prst="downArrow">
              <a:avLst>
                <a:gd name="adj1" fmla="val 50000"/>
                <a:gd name="adj2" fmla="val 11720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rot="1800000">
              <a:off x="3564000" y="2205000"/>
              <a:ext cx="199440" cy="936720"/>
            </a:xfrm>
            <a:prstGeom prst="downArrow">
              <a:avLst>
                <a:gd name="adj1" fmla="val 50000"/>
                <a:gd name="adj2" fmla="val 11741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995640" y="3645000"/>
              <a:ext cx="791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995640" y="4292640"/>
              <a:ext cx="791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3995280" y="2924280"/>
              <a:ext cx="791640" cy="5032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237440" y="3068640"/>
              <a:ext cx="1582200" cy="20160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Бюдже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поселени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79,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516720" y="4292640"/>
              <a:ext cx="720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516720" y="3645000"/>
              <a:ext cx="720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 flipV="1">
              <a:off x="6516360" y="2852280"/>
              <a:ext cx="720360" cy="5050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885080" y="2276640"/>
              <a:ext cx="199440" cy="792000"/>
            </a:xfrm>
            <a:prstGeom prst="downArrow">
              <a:avLst>
                <a:gd name="adj1" fmla="val 50000"/>
                <a:gd name="adj2" fmla="val 99278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rot="17880000">
              <a:off x="3133440" y="4652640"/>
              <a:ext cx="244440" cy="1685880"/>
            </a:xfrm>
            <a:prstGeom prst="downArrow">
              <a:avLst>
                <a:gd name="adj1" fmla="val 50000"/>
                <a:gd name="adj2" fmla="val 172423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3720000">
              <a:off x="7165440" y="4653000"/>
              <a:ext cx="244440" cy="1685520"/>
            </a:xfrm>
            <a:prstGeom prst="downArrow">
              <a:avLst>
                <a:gd name="adj1" fmla="val 50000"/>
                <a:gd name="adj2" fmla="val 172386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787640" y="4724280"/>
              <a:ext cx="1728720" cy="720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Иные межбюджетны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трансферт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</a:rPr>
                <a:t>29,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995640" y="5013360"/>
              <a:ext cx="791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516720" y="5013360"/>
              <a:ext cx="720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000"/>
                            </p:stCondLst>
                            <p:childTnLst>
                              <p:par>
                                <p:cTn id="6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1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799308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Единые нормативы отчислений в местные бюджеты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751" name=""/>
          <p:cNvGraphicFramePr/>
          <p:nvPr/>
        </p:nvGraphicFramePr>
        <p:xfrm>
          <a:off x="468360" y="1341360"/>
          <a:ext cx="8364600" cy="5146920"/>
        </p:xfrm>
        <a:graphic>
          <a:graphicData uri="http://schemas.openxmlformats.org/drawingml/2006/table">
            <a:tbl>
              <a:tblPr/>
              <a:tblGrid>
                <a:gridCol w="4260960"/>
                <a:gridCol w="1114200"/>
                <a:gridCol w="828720"/>
                <a:gridCol w="184320"/>
                <a:gridCol w="685800"/>
                <a:gridCol w="245880"/>
                <a:gridCol w="1044720"/>
              </a:tblGrid>
              <a:tr h="452520"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1" lang="ru-RU" sz="1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Кра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Райо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Посел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0720">
                <a:tc gridSpan="2">
                  <a:txBody>
                    <a:bodyPr lIns="91080" rIns="9108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лог на доходы физических ли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452520">
                <a:tc gridSpan="2">
                  <a:txBody>
                    <a:bodyPr lIns="91080" rIns="9108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лог на прибыль организац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452520">
                <a:tc gridSpan="2">
                  <a:txBody>
                    <a:bodyPr lIns="91080" rIns="9108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ый налог на вмененный дох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450720">
                <a:tc gridSpan="2">
                  <a:txBody>
                    <a:bodyPr lIns="91080" rIns="9108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ый сельскохозяйственный нало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452520">
                <a:tc gridSpan="2">
                  <a:txBody>
                    <a:bodyPr lIns="91080" rIns="9108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лог на имущество физических ли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79600">
                <a:tc gridSpan="2">
                  <a:txBody>
                    <a:bodyPr lIns="91080" rIns="9108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енная пошлина по делам, рассматриваемыми в судах общей юрисдик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452160">
                <a:tc gridSpan="2">
                  <a:txBody>
                    <a:bodyPr lIns="91080" rIns="9108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емельный нало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79600">
                <a:tc gridSpan="2">
                  <a:txBody>
                    <a:bodyPr lIns="91080" rIns="9108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ходы от арендной платы за государственные земли поселе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824040">
                <a:tc gridSpan="2">
                  <a:txBody>
                    <a:bodyPr lIns="91080" rIns="9108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ходы от продажи земельных участков, государственная собственность на которые не разграниче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2" name=""/>
          <p:cNvSpPr/>
          <p:nvPr/>
        </p:nvSpPr>
        <p:spPr>
          <a:xfrm>
            <a:off x="306360" y="79848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1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50560" y="33300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формация    подготовлена    на  основании    Решения Ермаковского районного Совета депутатов  «О районном бюджете  на 2014 год и плановый период 2015-2016 годов». В информации просто и доступно рассказы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ается о районном бюджете: его основных характеристиках,   статьях  расходов.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териалы подготовлены финансовым управлением администрации Ермаковского района. Ваши отзывы, вопросы, пожелания, вы можете направить на электронную почту финансового управления </a:t>
            </a:r>
            <a:r>
              <a:rPr b="0" lang="en-US" sz="2800" spc="-1" strike="noStrike" u="sng">
                <a:solidFill>
                  <a:srgbClr val="86d1ec"/>
                </a:solidFill>
                <a:uFillTx/>
                <a:latin typeface="Arial"/>
                <a:hlinkClick r:id="rId4"/>
              </a:rPr>
              <a:t>ermakfin@mail.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324000" y="0"/>
            <a:ext cx="820872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300" spc="-1" strike="noStrike">
                <a:solidFill>
                  <a:srgbClr val="ffffcc"/>
                </a:solidFill>
                <a:latin typeface="Arial"/>
              </a:rPr>
              <a:t>Формирование доходов и расходов поселений на 20</a:t>
            </a:r>
            <a:r>
              <a:rPr b="0" lang="en-US" sz="23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ru-RU" sz="2300" spc="-1" strike="noStrike">
                <a:solidFill>
                  <a:srgbClr val="ffffcc"/>
                </a:solidFill>
                <a:latin typeface="Arial"/>
              </a:rPr>
              <a:t>4 год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306360" y="85104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7380360" y="1125360"/>
            <a:ext cx="1439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млн.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56" name=""/>
          <p:cNvGraphicFramePr/>
          <p:nvPr/>
        </p:nvGraphicFramePr>
        <p:xfrm>
          <a:off x="0" y="1197000"/>
          <a:ext cx="9144000" cy="546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97000"/>
                    <a:ext cx="9144000" cy="54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8" name=""/>
          <p:cNvSpPr/>
          <p:nvPr/>
        </p:nvSpPr>
        <p:spPr>
          <a:xfrm>
            <a:off x="4932360" y="3213000"/>
            <a:ext cx="2160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Межбюджетны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рансферт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411280" y="3068640"/>
            <a:ext cx="17798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Собственны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доход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556000" y="4221000"/>
            <a:ext cx="237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Дотации из районног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фон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финансовой поддержк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оселен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627280" y="5950080"/>
            <a:ext cx="2952720" cy="733320"/>
          </a:xfrm>
          <a:prstGeom prst="borderCallout1">
            <a:avLst>
              <a:gd name="adj1" fmla="val 18750"/>
              <a:gd name="adj2" fmla="val -8333"/>
              <a:gd name="adj3" fmla="val -99564"/>
              <a:gd name="adj4" fmla="val 96074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Субвенция бюджетам субъектов РФ и муниципальных образован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7020000" y="5516640"/>
            <a:ext cx="1692360" cy="609480"/>
          </a:xfrm>
          <a:prstGeom prst="borderCallout1">
            <a:avLst>
              <a:gd name="adj1" fmla="val 18750"/>
              <a:gd name="adj2" fmla="val -8333"/>
              <a:gd name="adj3" fmla="val -127342"/>
              <a:gd name="adj4" fmla="val -68384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Субвенция по передаваемым полномочия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627280" y="5950080"/>
            <a:ext cx="2952720" cy="733320"/>
          </a:xfrm>
          <a:prstGeom prst="borderCallout1">
            <a:avLst>
              <a:gd name="adj1" fmla="val 18750"/>
              <a:gd name="adj2" fmla="val -8333"/>
              <a:gd name="adj3" fmla="val -99564"/>
              <a:gd name="adj4" fmla="val 96074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Субвенция бюджетам субъектов РФ и муниципальных образован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8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6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9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324000" y="0"/>
            <a:ext cx="820872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300" spc="-1" strike="noStrike">
                <a:solidFill>
                  <a:srgbClr val="040503"/>
                </a:solidFill>
                <a:latin typeface="Arial"/>
              </a:rPr>
              <a:t>Ведомственная структура расходов районного бюджета   на 20</a:t>
            </a:r>
            <a:r>
              <a:rPr b="0" lang="en-US" sz="2300" spc="-1" strike="noStrike">
                <a:solidFill>
                  <a:srgbClr val="040503"/>
                </a:solidFill>
                <a:latin typeface="Arial"/>
              </a:rPr>
              <a:t>1</a:t>
            </a:r>
            <a:r>
              <a:rPr b="0" lang="ru-RU" sz="2300" spc="-1" strike="noStrike">
                <a:solidFill>
                  <a:srgbClr val="040503"/>
                </a:solidFill>
                <a:latin typeface="Arial"/>
              </a:rPr>
              <a:t>4 год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06360" y="85104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804000" y="1125360"/>
            <a:ext cx="2016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0503"/>
                </a:solidFill>
                <a:latin typeface="Arial"/>
              </a:rPr>
              <a:t>млн. ру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932360" y="3213000"/>
            <a:ext cx="2160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411280" y="2781360"/>
            <a:ext cx="1779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556000" y="4221000"/>
            <a:ext cx="237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70" name=""/>
          <p:cNvGraphicFramePr/>
          <p:nvPr/>
        </p:nvGraphicFramePr>
        <p:xfrm>
          <a:off x="611280" y="1557360"/>
          <a:ext cx="7848360" cy="463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557360"/>
                    <a:ext cx="784836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6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324000" y="0"/>
            <a:ext cx="820872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Arial"/>
              </a:rPr>
              <a:t>Муниципальная долговая книга Ермаковского района      по состоянию на 01.01.2014г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306360" y="85104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932360" y="3213000"/>
            <a:ext cx="2160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411280" y="2781360"/>
            <a:ext cx="1779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556000" y="4221000"/>
            <a:ext cx="237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324000" y="907920"/>
          <a:ext cx="8729640" cy="4989600"/>
        </p:xfrm>
        <a:graphic>
          <a:graphicData uri="http://schemas.openxmlformats.org/drawingml/2006/table">
            <a:tbl>
              <a:tblPr/>
              <a:tblGrid>
                <a:gridCol w="228600"/>
                <a:gridCol w="617400"/>
                <a:gridCol w="665280"/>
                <a:gridCol w="720720"/>
                <a:gridCol w="863640"/>
                <a:gridCol w="1008000"/>
                <a:gridCol w="441360"/>
                <a:gridCol w="423720"/>
                <a:gridCol w="469800"/>
                <a:gridCol w="182520"/>
                <a:gridCol w="322560"/>
                <a:gridCol w="249120"/>
                <a:gridCol w="469800"/>
                <a:gridCol w="182520"/>
                <a:gridCol w="182520"/>
                <a:gridCol w="239760"/>
                <a:gridCol w="411120"/>
                <a:gridCol w="182880"/>
                <a:gridCol w="868320"/>
              </a:tblGrid>
              <a:tr h="419040">
                <a:tc gridSpan="19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Верхний предел муниципального долга на 01.01.2015 г. - 0,00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руб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52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в т.ч. верхний предел долга по муниципальным гарантиям - 0,00 руб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520">
                <a:tc gridSpan="9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Предельный объем муниципального долга на 2014 год - 34 071 980,56 руб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руб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№</a:t>
                      </a: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/№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Дата регистрации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Регистрационный код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Наименование кредитор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Наименование заемщик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Форма обеспечения обязательства, № и дата договора залога/ контргарантии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Основание возникновения долгового обязательств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Исполнение или прекращение долгового обязательства (полное/частичное)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Остаток долгового обязательства (непогашенный кредит, неиспользованная гарантия)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Вид, номер и дата документа (договора и.тд.)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Сумм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Дата/срок погашения (график)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Основание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Дат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Сумм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8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 gridSpan="19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. Кредитные соглашения и договоры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000">
                <a:tc gridSpan="19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. Муниципальные займы Ермаковского района</a:t>
                      </a: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  </a:t>
                      </a: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                                                              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 gridSpan="19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. Договоры и соглашения о получении бюджетных ссуд и бюджетных кредитов                                       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9560">
                <a:tc gridSpan="19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. Договоры о предоставлении муниципальных гарантий Ермаковского района</a:t>
                      </a: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                                 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9560">
                <a:tc gridSpan="9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ИТОГО ПО КНИГ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0,0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0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Уважаемые жители Ермаковского района !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первый раз разрабатывается информация «Бюджет для граждан», где в доступной форме объясняется, как формирует-ся главный финансовый документ района. Для того чтобы разобраться во всех цифрах непосвященному в бюджетный процесс человеку, необязательно анализировать финансовые документы. Достаточно открыть «Бюджет для граждан», кото-рый наглядно покажет, какие цели, задачи, муниципальные программы предусмотрены в бюджете, какую финансовую помощь получат поселения района и т.д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ы надеемся, что информация представленная в «Бюджете для граждан», позволит расширить знания о бюджете, заинте-ресует жителей района более активнее принимать участие в составлении, обсуждении бюджет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SzPct val="17428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Автономное учреждение - некоммерческая организация, созданная РФ, субъектом РФ или муниципальным образованием для выполнения работ, оказания услуг в сферах науки, образования, здравоохранения, культуры, социальной защиты, занятости населения, физической культуры и спорта, а также в иных сферах в случаях, установленных федеральными законами. Автономное учреждение имеет более широкий круг полномочий, чем бюджетное учреждение, но в то же время большую ответственность за результаты хозяйственной деятельности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SzPct val="17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Администратор доходов бюджета - орган государственной власти (местного самоуправления), орган управления государственным внебюджетным фондом, Центральный банк РФ, казенное учреждение, осуществляющие контроль за правильностью исчисления, полнотой и своевременностью уплаты, начисление, учет, взыскание, принятие решений о возврате (зачете) излишне уплаченных (взысканных) платежей, пеней и штрафов по ним, являющихся доходами бюджетов бюджетной системы РФ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SzPct val="17428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Бюджет -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 Представляет собой главный финансовый документ страны (региона, муниципального образования), утверждаемый органом законодательной власти соответствующего уровня управления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SzPct val="17428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Бюджет консолидированный - свод бюджетов бюджетной системы РФ на соответствующей территории (за исключением бюджетов государственных внебюджетных фондов). Консолидированным может быть бюджет на местном уровне (свод бюджета муниципального образования и бюджетов входящих в него поселений), региональном (свод бюджета субъекта РФ и бюджетов входящих в него муниципальных образований), федеральном (свод всех бюджетов бюджетной системы РФ)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SzPct val="17428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Бюджетная классификация – группировка доходов, расходов и источников финансирования дефицитов бюджетов бюджетной системы РФ, используемая для составления и исполнения бюджетов, составления бюджетной отчётности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000"/>
                            </p:stCondLst>
                            <p:childTnLst>
                              <p:par>
                                <p:cTn id="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50560" y="404640"/>
            <a:ext cx="87138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юджетная роспись - документ, который составляется и ведется главным распорядителем бюджетных средств (главным администратором источников финансирования дефицита бюджета) в целях исполнения бюджета по расходам (источникам финансирования дефицита бюджет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юджетная система Российской Федерации - совокупность федерального бюджета, бюджетов субъектов РФ, местных бюджетов и бюджетов государственных внебюджетных фонд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юджетное обязательство- расходные обязательства, подлежащие исполнению в соответствующем финансовом го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юджетное учреждение - некоммерческая организация, созданная РФ, субъектом РФ или муниципальным образованием для выполнения работ, оказания услуг в сферах науки, образования, здравоохранения, культуры, социальной защиты, занятости населения, физической культуры и спорта, а также в иных сфер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юджетные ассигнования - предельные объемы денежных средств, предусмотренные в соответствующем финансовом году для исполнения бюджетных обязательст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юджетные инвестиции - бюджетные средства, направляемые на создание или увеличение стоимости государственного (муниципального) имущест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юджет программный - бюджет, сформированный на основе государственных (муниципальных) программ. Программный бюджет обеспечивает прямую взаимосвязь между распределением бюджетных ресурсов и результатами их использования в соответствии с установленными приоритетами государственной полити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3000" fill="hold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юджетный процесс - деятельность по подготовке проектов бюджетов, утверждению и исполнению бюджетов, контролю за их исполнением, осуществлению бюджетного учета, составлению, внешней проверке, рассмотрению и утверждению бюджетной отчет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юджет субъекта Российской Федерации - форма образования и расходования денежных средств, предназначенных для финансирования функций, отнесенных к предметам ведения субъекта РФ.  Основной финансовый документ региона, утверждается на один год или на три года и имеет силу зако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домственная структура расходов бюджета  - Распределение бюджетных средств по главным распорядителям бюджетных средств, по разделам, подразделам, целевым статьям и видам расходов, либо по целевым статьям (государственным (муниципальным) программам и непрограммным направлениям деятельности), группам (группам и подгруппам) видов расходов классификации расходов бюджет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домственная целевая программа - документ, определяющий цели и задачи органов исполнительной власти края в области социально-экономического развития региона при осуществлении государственной политики в конкретных сферах деятельности, отраслях, видах экономической деятельности. Содержит комплекс необходимых мероприятий с указанием обеспечения финансовыми ресурсами, ожидаемых результатов и сроков реализ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нешний долг - долг, выраженный в иностранной валюте. В объем внешнего долга не включается долг субъектов РФ и муниципальных образований перед РФ, выраженный в иностранной валю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нутренний долг - долг, выраженный в валюте РФ (рублях), а также долг субъектов РФ и муниципальных образований перед РФ, выраженный в иностранной валют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0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лавный администратор доходов бюджета - орган государственной власти (местного самоуправления), орган управления государственным внебюджетным фондом, Центральный банк РФ, казенное учреждение, имеющие в своем ведении администраторов доходов бюджета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лавный распорядитель бюджетных средств (ГРБС) - орган государственной власти (местного самоуправления), орган управления государственным внебюджетным фондом, или наиболее значимое учреждение науки, образования, культуры и здравоохранения, напрямую получающий(ее) средства из бюджета и наделенный правом распределять их между подведомственными распорядителями и получателями бюджетных средст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осударственная или муниципальная гарантия - вид долгового обязательства государства (муниципального образования). Предполагает обязанность государства (муниципального образования) уплатить кредитору определенную денежную сумму за должника за счет средств соответствующего бюджета при наступлении гарантийного случа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осударственное (муниципальное) задание - документ, содержащий требования к составу, качеству, объему, условиям, порядку и результатам оказания государственных (муниципальных) услуг (выполнения работ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осударственные (муниципальные) услуги (работы) - услуги (работы), оказываемые (выполняемые) органами государственной власти (органами местного самоуправления), государственными (муниципальными) учреждениями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осударственный долг - обязательства РФ, субъекта РФ по полученным кредитам, выпущенным ценным бумагам, предоставленным гарантиям перед третьими лицами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3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0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0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000" fill="hold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фицит бюджета- превышение расходов бюджета над его доход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отации - финансовая помощь территориям, размер которой рассчитывается по установленной методике. Поскольку стартовые возможности в муниципальных образованиях различны (численность населения, транспортная доступность, климатические условия и т.д.), дотации нацелены на выравнивание этих условий. Таким образом, неравные финансовые возможности территорий приводятся к «общему знаменателю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оходы бюджета - поступающие от населения, организаций, учреждений в бюджет денежные средства в виде налогов, неналоговых поступлений (пошлины, доходы от продажи имущества, штрафы и т.п.), безвозмездных поступлений, доходов от предпринимательской деятельности бюджетных организаций. Кредиты, доходы от выпуска ценных бумаг, полученные государством (органами местного самоуправления), средства от продажи акций, остатки средств на начало периода не включаются в состав доход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сточники финансирования дефицита бюджета - средства, привлекаемые в бюджет для покрытия дефицита (кредиты банков, кредиты от других уровней бюджетов, выпуск ценных бумаг, средства от продажи акций, остатки средств на начало года, иные источники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зенное учреждение - государственное (муниципальное) учреждение, финансовое обеспечение деятельности которого осуществляется за счет средств соответствующего бюджета на основании бюджетной смет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имиты бюджетных обязательств - объем прав (в денежном выражении) по принятию и исполнению казенным учреждением бюджетных обязательств в текущем финансовом году и плановом перио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0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0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0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0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0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0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000" fill="hold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000" fill="hold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000" fill="hold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3000" fill="hold"/>
                                        <p:tgtEl>
                                          <p:spTgt spid="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000" fill="hold"/>
                                        <p:tgtEl>
                                          <p:spTgt spid="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000" fill="hold"/>
                                        <p:tgtEl>
                                          <p:spTgt spid="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000" fill="hold"/>
                                        <p:tgtEl>
                                          <p:spTgt spid="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жбюджетные отношения - взаимоотношения между РФ, субъектами РФ и муниципальными образованиями по вопросам осуществления бюджетного процесс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жбюджетные трансферты - средства, предоставляемые одним бюджетом бюджетной системы РФ другому бюджет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униципальный долг - совокупность долговых обязательств муниципального образования (кредитные соглашения и договоры, заключенные муниципальным образованием; займы муниципального образования, осуществляемые путем выпуска ценных бумаг от имени муниципального образования и др.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основание бюджетных ассигнований - документ, содержащий информацию о бюджетных средствах в очередном финансовом году (и плановом периоде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четный финансовый год - год, предшествующий текущему финансовому го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чередной финансовый год - год, следующий за текущим финансовым год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ановый период - два финансовых года, следующие за очередным финансовым год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учатель бюджетных средств - орган государственной власти (местного самоуправления), орган управления государственным внебюджетным фондом, казенное учреждение, исполняющие свои функции за счет средств соответствующего бюджет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граммные расходы - расходы, включенные в государственные (муниципальные) програм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фицит бюджета - превышение доходов бюджета над его расход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30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0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0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30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30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30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0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0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7000"/>
                            </p:stCondLst>
                            <p:childTnLst>
                              <p:par>
                                <p:cTn id="3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30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0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0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30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3000" fill="hold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000" fill="hold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000" fill="hold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000" fill="hold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3000" fill="hold"/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000" fill="hold"/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0" fill="hold"/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000" fill="hold"/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3000" fill="hold"/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000" fill="hold"/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3000" fill="hold"/>
                                        <p:tgtEl>
                                          <p:spTgt spid="5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000" fill="hold"/>
                                        <p:tgtEl>
                                          <p:spTgt spid="5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5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5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3000" fill="hold"/>
                                        <p:tgtEl>
                                          <p:spTgt spid="5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0" fill="hold"/>
                                        <p:tgtEl>
                                          <p:spTgt spid="5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000" fill="hold"/>
                                        <p:tgtEl>
                                          <p:spTgt spid="5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000" fill="hold"/>
                                        <p:tgtEl>
                                          <p:spTgt spid="5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3000" fill="hold"/>
                                        <p:tgtEl>
                                          <p:spTgt spid="5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000" fill="hold"/>
                                        <p:tgtEl>
                                          <p:spTgt spid="5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000" fill="hold"/>
                                        <p:tgtEl>
                                          <p:spTgt spid="5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3000" fill="hold"/>
                                        <p:tgtEl>
                                          <p:spTgt spid="5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3000" fill="hold"/>
                                        <p:tgtEl>
                                          <p:spTgt spid="5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000" fill="hold"/>
                                        <p:tgtEl>
                                          <p:spTgt spid="5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000" fill="hold"/>
                                        <p:tgtEl>
                                          <p:spTgt spid="5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3000" fill="hold"/>
                                        <p:tgtEl>
                                          <p:spTgt spid="5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2T12:15:02Z</dcterms:created>
  <dc:creator>30101</dc:creator>
  <dc:description/>
  <dc:language>en-US</dc:language>
  <cp:lastModifiedBy>Кравченко Наталья</cp:lastModifiedBy>
  <dcterms:modified xsi:type="dcterms:W3CDTF">2014-01-31T08:20:20Z</dcterms:modified>
  <cp:revision>219</cp:revision>
  <dc:subject/>
  <dc:title>Параметры и принципы формирования бюджета на 2007 год  Основные направления бюджетной и налоговой политики Красноярского края на 2007 год</dc:title>
</cp:coreProperties>
</file>