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CF4-0D1F-4EF4-A29C-09A15ED6F1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en-US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78F-8F19-491A-A3A5-3A73A47F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D4E-6EF1-4B23-8B45-890E247A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B3C-C3D4-41BD-9CE0-FCDBF5D9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A87-572A-47DA-A3C5-94D413C3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FC7-07F7-46E3-A68D-013DA2B8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31B3-9CFD-4995-A585-D06D7EFA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733-6361-4A9C-A20E-1B972D6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C38C-F2C2-43AC-B2AA-BDBF95B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2D71-418D-46FC-8B51-8965E01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EDD-9656-429F-AF40-A958CBDA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D75C-FBA7-44FE-BC7A-2058B2D9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310-8212-4F3A-B2A4-4D86078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79C-9B81-49BB-A616-F1A0DE7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516-3B00-4DCC-B05C-83F4222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B679-FEA1-4CD2-B42E-FC4CD14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9F7-895C-4D2A-ABE7-760CE85C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DEB8-0C9B-4AB1-8B90-C3BAC888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612-D015-4C9A-BA3A-1008884A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910B-851C-413B-A986-0F5F43C5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B352-E39D-4A31-BF4F-E9772CF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DA6B-BCAA-440A-89BC-63402060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294-628E-4398-AB97-0405E6A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5BE3-0670-413A-B758-D96B2FED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008D-1F0F-4CC3-832C-4F99928D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D9EB-F8CA-4645-B6A6-2920DE1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6F8E-7E39-4339-9F7A-92D3E79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9857-809B-462B-AB7B-A08E1AD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0FC7-2099-4ECD-8737-046BFBD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13EB-338E-4634-88E0-F62C3E84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C363-799E-41CF-AF0B-94F9E915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0314-6D24-4506-896D-B134538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877-DEBD-490C-8700-CB09C18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717-B6CB-475E-892E-B74EF46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13596-8230-4634-B413-2621EB85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3580-B154-4245-A34D-82D05329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E7FE-B3A7-4BB2-A6EC-9AE42563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84CF-4022-4187-84DB-9F319F1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0521-6E07-4876-B779-D3C6FC7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F1D4-4AC4-440C-8B4E-5BCFC3D7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5ACF-CF68-4FF2-A3BD-205D904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3091-7C7B-46EF-9198-72A01D8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8863-2DAE-4A7A-A308-F64DFAD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258-7B07-464D-BBB7-37A874B4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CCBD-D59A-4508-A707-90B15E0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7C6C-9CBE-4D23-868A-740624E8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6938-B9F9-4F62-A66C-4CBBAB49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074-7899-4DED-893A-8D6C845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DB7-D77B-47AB-BB9D-5C4C563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B67-CB6D-43FB-A45A-720409E2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4F5-8B79-485E-B4FB-38E0BEB4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451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D9C751-4155-4A3E-B61B-B76404D9F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d36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364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451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9683a"/>
                </a:gs>
                <a:gs pos="100000">
                  <a:srgbClr val="546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d36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856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48562c"/>
                </a:gs>
                <a:gs pos="100000">
                  <a:srgbClr val="2f39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a45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d6c3f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62e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a33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637146"/>
                </a:gs>
                <a:gs pos="100000">
                  <a:srgbClr val="5464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b1e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53f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23c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2830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654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84322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039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c4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414e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6434"/>
                  </a:gs>
                  <a:gs pos="100000">
                    <a:srgbClr val="3c482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7146"/>
                  </a:gs>
                  <a:gs pos="100000">
                    <a:srgbClr val="546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21F-A738-41D6-8324-170AC7180F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701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Бюджет для граждан Ермаковского района на 20</a:t>
            </a:r>
            <a:r>
              <a:rPr b="1" lang="en-US" sz="17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4 год и плановый период 2015-2016</a:t>
            </a:r>
            <a:br>
              <a:rPr sz="1700"/>
            </a:b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одов</a:t>
            </a:r>
            <a:br>
              <a:rPr sz="1700"/>
            </a:b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865840" cy="52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468360" y="1341360"/>
          <a:ext cx="8364600" cy="514692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95280" y="0"/>
            <a:ext cx="8209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1395360"/>
          <a:ext cx="9144000" cy="54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95360"/>
                    <a:ext cx="914400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4932360" y="3213000"/>
            <a:ext cx="216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11280" y="3068640"/>
            <a:ext cx="177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56000" y="422100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20000" y="5516640"/>
            <a:ext cx="1692360" cy="609480"/>
          </a:xfrm>
          <a:prstGeom prst="borderCallout1">
            <a:avLst>
              <a:gd name="adj1" fmla="val 18750"/>
              <a:gd name="adj2" fmla="val -8333"/>
              <a:gd name="adj3" fmla="val -127342"/>
              <a:gd name="adj4" fmla="val -6838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27280" y="5950080"/>
            <a:ext cx="2952720" cy="733320"/>
          </a:xfrm>
          <a:prstGeom prst="borderCallout1">
            <a:avLst>
              <a:gd name="adj1" fmla="val 18750"/>
              <a:gd name="adj2" fmla="val -8333"/>
              <a:gd name="adj3" fmla="val -99564"/>
              <a:gd name="adj4" fmla="val 9607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венция бюджетам субъектов РФ и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формация    подготовлена    на  основании    Решения Ермаковского районного Совета депутатов  «О районном бюджете  на 2014 год и плановый период 2015-2016 годов». В информации просто и доступно рассказывается о районном бюджете: его основных характеристиках,   статьях  расходов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ериалы подготовлены финансовым управлением администрации Ермаков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Ермаковский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497" name="" descr=""/>
            <p:cNvPicPr/>
            <p:nvPr/>
          </p:nvPicPr>
          <p:blipFill>
            <a:blip r:embed="rId2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6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2119320" y="3645000"/>
            <a:ext cx="934920" cy="20257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19320" y="3645000"/>
            <a:ext cx="934920" cy="202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7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 rot="10678800">
            <a:off x="3619080" y="263268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3,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936360" cy="28875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500720" y="2781360"/>
            <a:ext cx="936360" cy="288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48240" y="2492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5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8"/>
          <a:stretch/>
        </p:blipFill>
        <p:spPr>
          <a:xfrm>
            <a:off x="6084720" y="1917720"/>
            <a:ext cx="973440" cy="3744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 flipV="1" rot="10678800">
            <a:off x="6079680" y="1625040"/>
            <a:ext cx="88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2,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9"/>
          <a:stretch/>
        </p:blipFill>
        <p:spPr>
          <a:xfrm>
            <a:off x="7020000" y="1773360"/>
            <a:ext cx="936720" cy="38955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7020000" y="1773360"/>
            <a:ext cx="936720" cy="38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20000" y="1484280"/>
            <a:ext cx="10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13,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84720" y="1917720"/>
            <a:ext cx="935280" cy="375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95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Ермаков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11280" y="1413000"/>
          <a:ext cx="7993080" cy="494496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29412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,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 207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54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1 593,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 475,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807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162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кцизы по продаже товаров (продукции), произведенных на территори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635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853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9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8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80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230,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82,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2 54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6 94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7 38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175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37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535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76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68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6 412,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3 363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2 479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9 905,8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8 660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культур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1280" y="5522760"/>
            <a:ext cx="151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электронного муниципалитет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920" y="603900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ддержка и развитие малого и среднего предпринимательств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1280" y="479412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2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9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50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51280" y="479412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089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479412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еспечение безопасности жизнедеятельности населения 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8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506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70 542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25 088,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06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235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67,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474,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лодежь Ермаковского района в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е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13,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387,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физической культуры, спорта, туризм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0 953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1 75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51 957,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06 692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образования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5840" y="6767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5840" y="47941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5840" y="6039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4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575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48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8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сельского хозяйства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31280" y="55166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19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4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51280" y="552276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685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0920" y="552276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ращение с твердыми бытовыми отходами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территори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31280" y="603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41 222,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19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23 915,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51280" y="603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96 436,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0920" y="612936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31280" y="494172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1 477,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9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2 620,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51280" y="494172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3 154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494172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5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00536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5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675,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2764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31280" y="4508640"/>
            <a:ext cx="1512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936,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16360" y="4508640"/>
            <a:ext cx="1440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867,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4508640"/>
            <a:ext cx="450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архивного дела в Ермаков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31280" y="400536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88000" y="400536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750,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400536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действие развитию местного само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631280" y="3429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590,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16360" y="3429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884,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0920" y="3357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6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здание условий для строительства социально значимых объектов, а так же обеспечения доступным жильём граждан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1280" y="26370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716360" y="26370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25,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правление муниципальным имуществом и земельными ресурсами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 645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141,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азвитие транспортной системы Ермак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5840" y="321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5840" y="400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5840" y="45086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5840" y="501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5840" y="5522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5840" y="6093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Ермаковский район» на 2014 год и плановый период 2015-2016 год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75" name="" descr=""/>
            <p:cNvPicPr/>
            <p:nvPr/>
          </p:nvPicPr>
          <p:blipFill>
            <a:blip r:embed="rId2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3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48600" y="2163600"/>
            <a:ext cx="696960" cy="38782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5560" y="4178160"/>
            <a:ext cx="698400" cy="184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903320" y="4041720"/>
            <a:ext cx="700200" cy="19796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03760" y="3645000"/>
            <a:ext cx="752400" cy="23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16560" y="3506760"/>
            <a:ext cx="753840" cy="25146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755640" y="1628640"/>
            <a:ext cx="8161200" cy="4438800"/>
            <a:chOff x="755640" y="1628640"/>
            <a:chExt cx="8161200" cy="4438800"/>
          </a:xfrm>
        </p:grpSpPr>
        <p:pic>
          <p:nvPicPr>
            <p:cNvPr id="691" name="" descr=""/>
            <p:cNvPicPr/>
            <p:nvPr/>
          </p:nvPicPr>
          <p:blipFill>
            <a:blip r:embed="rId4"/>
            <a:stretch/>
          </p:blipFill>
          <p:spPr>
            <a:xfrm>
              <a:off x="6534000" y="2276640"/>
              <a:ext cx="7099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666648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2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5"/>
            <a:stretch/>
          </p:blipFill>
          <p:spPr>
            <a:xfrm>
              <a:off x="7248600" y="2163600"/>
              <a:ext cx="69696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7382520" y="1628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43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5640" y="6066000"/>
              <a:ext cx="8161200" cy="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6" name="" descr=""/>
            <p:cNvPicPr/>
            <p:nvPr/>
          </p:nvPicPr>
          <p:blipFill>
            <a:blip r:embed="rId6"/>
            <a:stretch/>
          </p:blipFill>
          <p:spPr>
            <a:xfrm>
              <a:off x="1195560" y="4178160"/>
              <a:ext cx="69840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198440" y="3643200"/>
              <a:ext cx="65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7"/>
            <a:stretch/>
          </p:blipFill>
          <p:spPr>
            <a:xfrm>
              <a:off x="1903320" y="4041720"/>
              <a:ext cx="7002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 flipV="1" rot="10806600">
              <a:off x="2028600" y="3637440"/>
              <a:ext cx="65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49,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8"/>
            <a:stretch/>
          </p:blipFill>
          <p:spPr>
            <a:xfrm>
              <a:off x="3803760" y="3645000"/>
              <a:ext cx="7524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807000" y="3103560"/>
              <a:ext cx="73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99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9"/>
            <a:stretch/>
          </p:blipFill>
          <p:spPr>
            <a:xfrm>
              <a:off x="4516560" y="3506760"/>
              <a:ext cx="753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767840" y="3103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800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Ермаков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805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55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711" name="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542,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177,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30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2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6,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18,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79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29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Кравченко Наталья</cp:lastModifiedBy>
  <dcterms:modified xsi:type="dcterms:W3CDTF">2013-12-31T03:44:16Z</dcterms:modified>
  <cp:revision>191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