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9871075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0"/>
            <a:ext cx="98712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dt" idx="13"/>
          </p:nvPr>
        </p:nvSpPr>
        <p:spPr>
          <a:xfrm>
            <a:off x="558972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Img"/>
          </p:nvPr>
        </p:nvSpPr>
        <p:spPr>
          <a:xfrm>
            <a:off x="3254040" y="506160"/>
            <a:ext cx="3365640" cy="2523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body"/>
          </p:nvPr>
        </p:nvSpPr>
        <p:spPr>
          <a:xfrm>
            <a:off x="985320" y="3200400"/>
            <a:ext cx="7898040" cy="30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ftr" idx="14"/>
          </p:nvPr>
        </p:nvSpPr>
        <p:spPr>
          <a:xfrm>
            <a:off x="0" y="639720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 type="sldNum" idx="15"/>
          </p:nvPr>
        </p:nvSpPr>
        <p:spPr>
          <a:xfrm>
            <a:off x="5589720" y="639720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60FD-F2D1-4263-9942-F46270301D0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5589720" y="6397560"/>
            <a:ext cx="4278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7AC5-2DAF-4995-85E8-FC2F6D759F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3254400" y="506520"/>
            <a:ext cx="3365640" cy="25239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85320" y="3200400"/>
            <a:ext cx="789804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3254400" y="506520"/>
            <a:ext cx="3365640" cy="25239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85320" y="3200400"/>
            <a:ext cx="789804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Номер слайда 3"/>
          <p:cNvSpPr/>
          <p:nvPr/>
        </p:nvSpPr>
        <p:spPr>
          <a:xfrm>
            <a:off x="5589720" y="6397560"/>
            <a:ext cx="4278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F440-40DD-4402-95DA-88FF49EF42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2706-D6B6-4887-B943-0C628061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43B1-A843-4E37-A2E2-16B29A58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EB33-6A84-4DB9-A6FD-B6287407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6544-CC50-4F42-A0F4-5B6A78F67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4AB2-E5AE-4531-85E1-D647EF61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FEA1-2370-4528-BDF2-8C65329D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98DF-73E5-43B2-8292-38538631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76A7-7C42-4B4D-91FF-ACD81160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A93A-0CFE-411D-85EF-02BC73E0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06B0-1B3C-4700-A277-B696FC29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6644-1375-4FFF-AC09-9AE1E7FA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B306-81EF-4621-8DEE-FE81C479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C135-F3F1-4051-919B-C58FA824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CAD5-6EDF-484C-9AFE-B89462B4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8CD65-3A41-4286-B1E9-AFDAB6BC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E5E3-DDA1-49A9-844D-07D92C7A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7914-3EE2-4CE2-BE10-E5FB6C16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B07B-ACA9-4BA7-ACFB-321882D6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3FCD-9D5A-45B6-9BD6-A28F6833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CE79E-1546-4A74-B790-39F50248C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F2B3-CCE3-4565-8851-640E9349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322C6-86F4-47E9-9E0D-ED7B7161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BB640-B1C7-4C4E-A21F-8AC9B850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20E6B-E8E8-4969-A511-80FF7755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8E5A1-6746-40BA-9347-3889C5E6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B916A-CE88-4141-B602-0BD9015D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03EC2-FC8A-4BF0-865A-6146E2EC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9E9E9-D829-4BA7-A167-EDD65B4E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421B3-20A9-4D8D-BAC0-2A52B65E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B39A6-BCCD-4DC8-A74B-691A72E7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FBD06-1EEB-4A9B-8593-6FAC77D0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4D50-66D5-4573-8BE1-3D04E55B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A07A3-C75A-474B-AA36-D0ACFE43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F1572-C233-4DB8-8BE6-8548DB88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B5966-1D3C-4461-B228-5B05BF67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440E6-0EC7-4838-882C-BF3BC140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29443-85AB-44E5-89ED-E3768100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15342-BAFB-4FAB-BCD7-A5CD8356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D0579-171E-44B3-AAFA-BA335B01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38039-6177-41E3-81E7-7E7749F1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71D60-DE5A-4942-87FC-CCC5A3FE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CE591-54D9-485D-BE68-DF4D22B1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20AF-464A-4E01-B3F2-0708E281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48C07-0969-4BC5-B274-986BC5EE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5C28F-D4A2-4AD7-9A35-F08FAEEF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01305-422E-4F72-B36A-B6B447AB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543A-BB34-42C0-8F17-FD703D76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7C39-7760-464D-8E9C-7D207BF8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9AAE-8C57-45C6-BE38-D00C1096A0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2360" y="277560"/>
            <a:ext cx="863928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252360" y="1160640"/>
            <a:ext cx="8639280" cy="4970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9900"/>
              </a:buClr>
              <a:buSzPct val="150000"/>
              <a:buFont typeface="Wingdings" charset="2"/>
              <a:buChar char="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2600">
              <a:spcBef>
                <a:spcPts val="799"/>
              </a:spcBef>
              <a:buClr>
                <a:srgbClr val="ffff99"/>
              </a:buClr>
              <a:buSzPct val="120000"/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156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8840" indent="-230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8840" indent="-230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8840" indent="-2300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0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2e371c"/>
                </a:gs>
                <a:gs pos="100000">
                  <a:srgbClr val="4856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364121"/>
                </a:gs>
                <a:gs pos="100000">
                  <a:srgbClr val="4856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48562c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45522b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546434"/>
                </a:gs>
                <a:gs pos="100000">
                  <a:srgbClr val="5969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2e371c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48562c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30391d"/>
                </a:gs>
                <a:gs pos="100000">
                  <a:srgbClr val="4856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3b4624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546434"/>
                </a:gs>
                <a:gs pos="100000">
                  <a:srgbClr val="5e6d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272e18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2b331b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394423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546434"/>
                </a:gs>
                <a:gs pos="100000">
                  <a:srgbClr val="6372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30391d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323c1f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354021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47552c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293119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47552c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394423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303a1e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6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97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3d4926"/>
                  </a:gs>
                  <a:gs pos="100000">
                    <a:srgbClr val="54643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546434"/>
                  </a:gs>
                  <a:gs pos="100000">
                    <a:srgbClr val="63724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b3b1"/>
              </a:buClr>
              <a:buSzPct val="15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38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75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AF6E-C3A7-4CB2-A30F-8EA163DB4A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19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56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2360" y="277560"/>
            <a:ext cx="863928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252360" y="1160640"/>
            <a:ext cx="8639280" cy="4970160"/>
          </a:xfrm>
          <a:prstGeom prst="rect">
            <a:avLst/>
          </a:prstGeom>
          <a:noFill/>
          <a:ln w="0">
            <a:noFill/>
          </a:ln>
        </p:spPr>
        <p:txBody>
          <a:bodyPr lIns="2700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9900"/>
              </a:buClr>
              <a:buSzPct val="150000"/>
              <a:buFont typeface="Wingdings" charset="2"/>
              <a:buChar char="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2600">
              <a:spcBef>
                <a:spcPts val="799"/>
              </a:spcBef>
              <a:buClr>
                <a:srgbClr val="ffff99"/>
              </a:buClr>
              <a:buSzPct val="120000"/>
              <a:buFont typeface="Wingdings" charset="2"/>
              <a:buChar char="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156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8840" indent="-230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8840" indent="-230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8840" indent="-2300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08EA-066C-410C-9E13-F6D70A8E1E7B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00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2e371c"/>
                </a:gs>
                <a:gs pos="100000">
                  <a:srgbClr val="4856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364121"/>
                </a:gs>
                <a:gs pos="100000">
                  <a:srgbClr val="4856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48562c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45522b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546434"/>
                </a:gs>
                <a:gs pos="100000">
                  <a:srgbClr val="5969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2e371c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48562c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30391d"/>
                </a:gs>
                <a:gs pos="100000">
                  <a:srgbClr val="4856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3b4624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546434"/>
                </a:gs>
                <a:gs pos="100000">
                  <a:srgbClr val="5e6d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546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272e18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2b331b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394423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546434"/>
                </a:gs>
                <a:gs pos="100000">
                  <a:srgbClr val="6372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30391d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323c1f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4856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354021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333d20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47552c"/>
                </a:gs>
                <a:gs pos="100000">
                  <a:srgbClr val="54643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293119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47552c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394423"/>
                </a:gs>
                <a:gs pos="100000">
                  <a:srgbClr val="48562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303a1e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3d4926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424f29"/>
                </a:gs>
                <a:gs pos="100000">
                  <a:srgbClr val="5464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6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37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3d4926"/>
                  </a:gs>
                  <a:gs pos="100000">
                    <a:srgbClr val="54643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546434"/>
                  </a:gs>
                  <a:gs pos="100000">
                    <a:srgbClr val="63724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7030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250920" y="1160640"/>
            <a:ext cx="8642160" cy="497016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b3b1"/>
              </a:buClr>
              <a:buSzPct val="15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FEEB-1C06-495D-B37F-8E5D02017A2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129440" cy="13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spcBef>
                <a:spcPts val="1701"/>
              </a:spcBef>
              <a:spcAft>
                <a:spcPts val="1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00"/>
                </a:solidFill>
                <a:latin typeface="Arial"/>
              </a:rPr>
              <a:t>Исполнение районного бюджета за 20</a:t>
            </a:r>
            <a:r>
              <a:rPr b="1" lang="en-US" sz="17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ru-RU" sz="1700" spc="-1" strike="noStrike">
                <a:solidFill>
                  <a:srgbClr val="0033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88" name="Picture 9" descr="Красноярский-край-Ермаковск"/>
          <p:cNvPicPr/>
          <p:nvPr/>
        </p:nvPicPr>
        <p:blipFill>
          <a:blip r:embed="rId2"/>
          <a:stretch/>
        </p:blipFill>
        <p:spPr>
          <a:xfrm>
            <a:off x="1619280" y="1197000"/>
            <a:ext cx="5865840" cy="526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8b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818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4d"/>
                </a:solidFill>
                <a:latin typeface="Arial"/>
              </a:rPr>
              <a:t>Параметры районного бюджета в 2018 году</a:t>
            </a:r>
            <a:endParaRPr b="0" lang="en-US" sz="25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611280" y="1413000"/>
          <a:ext cx="7993080" cy="5037120"/>
        </p:xfrm>
        <a:graphic>
          <a:graphicData uri="http://schemas.openxmlformats.org/drawingml/2006/table">
            <a:tbl>
              <a:tblPr/>
              <a:tblGrid>
                <a:gridCol w="3479760"/>
                <a:gridCol w="1125360"/>
                <a:gridCol w="1130400"/>
                <a:gridCol w="1130400"/>
                <a:gridCol w="1127160"/>
              </a:tblGrid>
              <a:tr h="448200"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паказат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Первая редак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Уточненный пл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Испол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% исполн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ДОХ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832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1004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976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97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Доходы (налоговые, неналоговы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68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73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70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94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Безвозмездные поступ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759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930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906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97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РАСХ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827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1007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976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97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Расходы в рамках муниципальных програм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797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951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923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97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Непрограммные расх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30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56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53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95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РЕЗУЛЬТАТ ИСПОЛНЕНИЯ  (- дефицит; + профицит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4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-2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0,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ИСТОЧНИКИ ФИНАНСИРОВАНИЯ ДЕФИЦИ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-4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2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-0,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Бюджетные креди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1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1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Изменение остатков средств на счета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0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4d"/>
                          </a:solidFill>
                          <a:latin typeface="Arial"/>
                        </a:rPr>
                        <a:t>-1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1" name="Text Box 105"/>
          <p:cNvSpPr/>
          <p:nvPr/>
        </p:nvSpPr>
        <p:spPr>
          <a:xfrm>
            <a:off x="7380360" y="907920"/>
            <a:ext cx="15494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4d"/>
                </a:solidFill>
                <a:latin typeface="Times New Roman"/>
              </a:rPr>
              <a:t>млн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107"/>
          <p:cNvSpPr/>
          <p:nvPr/>
        </p:nvSpPr>
        <p:spPr>
          <a:xfrm>
            <a:off x="324000" y="981000"/>
            <a:ext cx="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Line 108"/>
          <p:cNvSpPr/>
          <p:nvPr/>
        </p:nvSpPr>
        <p:spPr>
          <a:xfrm>
            <a:off x="306360" y="79848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6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6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8b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Диаграмма 4" descr=""/>
          <p:cNvPicPr/>
          <p:nvPr/>
        </p:nvPicPr>
        <p:blipFill>
          <a:blip r:embed="rId1"/>
          <a:stretch/>
        </p:blipFill>
        <p:spPr>
          <a:xfrm>
            <a:off x="214200" y="1071720"/>
            <a:ext cx="8715600" cy="5572080"/>
          </a:xfrm>
          <a:prstGeom prst="rect">
            <a:avLst/>
          </a:prstGeom>
          <a:ln w="0">
            <a:noFill/>
          </a:ln>
        </p:spPr>
      </p:pic>
      <p:sp>
        <p:nvSpPr>
          <p:cNvPr id="495" name="TextBox 5"/>
          <p:cNvSpPr/>
          <p:nvPr/>
        </p:nvSpPr>
        <p:spPr>
          <a:xfrm>
            <a:off x="977400" y="357120"/>
            <a:ext cx="71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00"/>
                </a:solidFill>
                <a:latin typeface="Times New Roman"/>
                <a:ea typeface="Times New Roman"/>
              </a:rPr>
              <a:t>ДИНАМИКА ДОХОДОВ РАЙОННОГО БЮДЖ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8b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-108000" y="277560"/>
            <a:ext cx="936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сполнение доходов бюджета за 2018 год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97" name="Таблица 5" descr=""/>
          <p:cNvPicPr/>
          <p:nvPr/>
        </p:nvPicPr>
        <p:blipFill>
          <a:blip r:embed="rId1"/>
          <a:stretch/>
        </p:blipFill>
        <p:spPr>
          <a:xfrm>
            <a:off x="200160" y="1362240"/>
            <a:ext cx="8826480" cy="50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8b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Таблица 3" descr=""/>
          <p:cNvPicPr/>
          <p:nvPr/>
        </p:nvPicPr>
        <p:blipFill>
          <a:blip r:embed="rId1"/>
          <a:stretch/>
        </p:blipFill>
        <p:spPr>
          <a:xfrm>
            <a:off x="417600" y="565200"/>
            <a:ext cx="805320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8b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3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ТРУКТУРА РАСХОДОВ БЮДЖЕТА В 2018 ГОДУ</a:t>
            </a:r>
            <a:br>
              <a:rPr sz="2800"/>
            </a:b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сполнение к плановым назначениям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00" name="Таблица 3" descr=""/>
          <p:cNvPicPr/>
          <p:nvPr/>
        </p:nvPicPr>
        <p:blipFill>
          <a:blip r:embed="rId1"/>
          <a:stretch/>
        </p:blipFill>
        <p:spPr>
          <a:xfrm>
            <a:off x="822240" y="2054160"/>
            <a:ext cx="7456680" cy="4108680"/>
          </a:xfrm>
          <a:prstGeom prst="rect">
            <a:avLst/>
          </a:prstGeom>
          <a:ln w="0">
            <a:noFill/>
          </a:ln>
        </p:spPr>
      </p:pic>
      <p:sp>
        <p:nvSpPr>
          <p:cNvPr id="501" name="TextBox 4"/>
          <p:cNvSpPr/>
          <p:nvPr/>
        </p:nvSpPr>
        <p:spPr>
          <a:xfrm>
            <a:off x="4584600" y="6093000"/>
            <a:ext cx="131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Образ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576,0   97,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Box 6"/>
          <p:cNvSpPr/>
          <p:nvPr/>
        </p:nvSpPr>
        <p:spPr>
          <a:xfrm>
            <a:off x="397080" y="5678640"/>
            <a:ext cx="160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ультур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инематограф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89,2   99,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Box 7"/>
          <p:cNvSpPr/>
          <p:nvPr/>
        </p:nvSpPr>
        <p:spPr>
          <a:xfrm>
            <a:off x="-4680" y="3716280"/>
            <a:ext cx="209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оциальная полити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98,3   99,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8"/>
          <p:cNvSpPr/>
          <p:nvPr/>
        </p:nvSpPr>
        <p:spPr>
          <a:xfrm>
            <a:off x="79200" y="2492280"/>
            <a:ext cx="202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Физическая культу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 спор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9,6   96,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Прямая соединительная линия 10"/>
          <p:cNvSpPr/>
          <p:nvPr/>
        </p:nvSpPr>
        <p:spPr>
          <a:xfrm flipV="1">
            <a:off x="5292720" y="5805000"/>
            <a:ext cx="0" cy="35244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Прямая соединительная линия 12"/>
          <p:cNvSpPr/>
          <p:nvPr/>
        </p:nvSpPr>
        <p:spPr>
          <a:xfrm flipV="1">
            <a:off x="1763640" y="5013360"/>
            <a:ext cx="1008000" cy="79200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Прямая соединительная линия 14"/>
          <p:cNvSpPr/>
          <p:nvPr/>
        </p:nvSpPr>
        <p:spPr>
          <a:xfrm flipV="1">
            <a:off x="2124000" y="3860280"/>
            <a:ext cx="576360" cy="7308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Прямая соединительная линия 16"/>
          <p:cNvSpPr/>
          <p:nvPr/>
        </p:nvSpPr>
        <p:spPr>
          <a:xfrm flipH="1">
            <a:off x="2050560" y="2708280"/>
            <a:ext cx="1405080" cy="14436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Box 17"/>
          <p:cNvSpPr/>
          <p:nvPr/>
        </p:nvSpPr>
        <p:spPr>
          <a:xfrm>
            <a:off x="1045800" y="1655640"/>
            <a:ext cx="167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Здравоохран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0,3   10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Box 18"/>
          <p:cNvSpPr/>
          <p:nvPr/>
        </p:nvSpPr>
        <p:spPr>
          <a:xfrm>
            <a:off x="3033360" y="1341360"/>
            <a:ext cx="160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ежбюджет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рансфер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82,5   99,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Box 19"/>
          <p:cNvSpPr/>
          <p:nvPr/>
        </p:nvSpPr>
        <p:spPr>
          <a:xfrm>
            <a:off x="6736320" y="5532480"/>
            <a:ext cx="1432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Жилищно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оммунально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хозяй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30,6   91,8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Box 20"/>
          <p:cNvSpPr/>
          <p:nvPr/>
        </p:nvSpPr>
        <p:spPr>
          <a:xfrm>
            <a:off x="7221240" y="4273560"/>
            <a:ext cx="141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ациональн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экономи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45,0   89,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Прямая соединительная линия 22"/>
          <p:cNvSpPr/>
          <p:nvPr/>
        </p:nvSpPr>
        <p:spPr>
          <a:xfrm flipH="1" flipV="1">
            <a:off x="6227640" y="4723920"/>
            <a:ext cx="503280" cy="82404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Прямая соединительная линия 24"/>
          <p:cNvSpPr/>
          <p:nvPr/>
        </p:nvSpPr>
        <p:spPr>
          <a:xfrm flipH="1" flipV="1">
            <a:off x="6443640" y="4005360"/>
            <a:ext cx="720720" cy="50328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Box 25"/>
          <p:cNvSpPr/>
          <p:nvPr/>
        </p:nvSpPr>
        <p:spPr>
          <a:xfrm>
            <a:off x="6860880" y="2565360"/>
            <a:ext cx="1954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ациональн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езопасность 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авоохранительн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еятель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3,9   86,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Прямая соединительная линия 27"/>
          <p:cNvSpPr/>
          <p:nvPr/>
        </p:nvSpPr>
        <p:spPr>
          <a:xfrm flipH="1">
            <a:off x="6372360" y="3213000"/>
            <a:ext cx="720720" cy="7308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Прямая соединительная линия 29"/>
          <p:cNvSpPr/>
          <p:nvPr/>
        </p:nvSpPr>
        <p:spPr>
          <a:xfrm>
            <a:off x="2411280" y="2133720"/>
            <a:ext cx="1152720" cy="35856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Прямая соединительная линия 35"/>
          <p:cNvSpPr/>
          <p:nvPr/>
        </p:nvSpPr>
        <p:spPr>
          <a:xfrm>
            <a:off x="4067280" y="2133720"/>
            <a:ext cx="73080" cy="35856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Box 36"/>
          <p:cNvSpPr/>
          <p:nvPr/>
        </p:nvSpPr>
        <p:spPr>
          <a:xfrm>
            <a:off x="4754520" y="1419120"/>
            <a:ext cx="215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Общегосударствен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опро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40,1   99,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Box 37"/>
          <p:cNvSpPr/>
          <p:nvPr/>
        </p:nvSpPr>
        <p:spPr>
          <a:xfrm>
            <a:off x="6741720" y="1776240"/>
            <a:ext cx="141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ациональн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обор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1,3   98,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Прямая соединительная линия 39"/>
          <p:cNvSpPr/>
          <p:nvPr/>
        </p:nvSpPr>
        <p:spPr>
          <a:xfrm flipV="1">
            <a:off x="6300720" y="2312640"/>
            <a:ext cx="574920" cy="755640"/>
          </a:xfrm>
          <a:prstGeom prst="line">
            <a:avLst/>
          </a:prstGeom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12:15:02Z</dcterms:created>
  <dc:creator>30101</dc:creator>
  <dc:description/>
  <dc:language>en-US</dc:language>
  <cp:lastModifiedBy>Макс</cp:lastModifiedBy>
  <dcterms:modified xsi:type="dcterms:W3CDTF">2019-05-14T04:19:05Z</dcterms:modified>
  <cp:revision>275</cp:revision>
  <dc:subject/>
  <dc:title>Параметры и принципы формирования бюджета на 2007 год  Основные направления бюджетной и налоговой политики Красноярского края на 2007 год</dc:title>
</cp:coreProperties>
</file>